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A9B-3CEC-4B95-A913-00F873D1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B2D-E4A6-43BA-B69D-EA58ADD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9BA-D916-43A1-8CE4-00570D93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4CD-F7D2-4717-BA5C-D0F99A64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52C8-D958-4109-B30F-9640BE63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BD4-35F0-4343-A2ED-0D002224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51FB-B159-4645-AEEB-457287A2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E746-95AB-4DB5-A0AD-6FF1C25C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16B1-9641-472E-B0D2-73F8499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4D48-B818-4C4A-96B2-53C60C88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D1D3-7D08-4A18-8577-5D0A58C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92D-B8B8-476D-B3C8-FD371CC3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EDB-41B3-4547-B124-FAF2E2C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3DEA-0B44-45DE-8741-3E605181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0C4C-E084-4875-93D6-7C46001B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E0A9-2BF6-4860-96EC-54C1AC56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FAD4-F036-49E1-9DA9-9F02F0C6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405-4554-408E-8680-E1C0440C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384-9722-426D-A653-E643F020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2C5-7741-4784-B5F9-7A0E8D9D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8EF-A624-49CA-B28A-E0F32A6A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7D6-34F9-4B5A-A767-0278D2EB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8DC-BE3F-4934-B54A-D0A6C7D5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072-8DEA-44AB-8BDD-D24C966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D9D4-1C29-4E2E-ADF9-BF8CCFE45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AF7D-3822-479B-B794-C636E911C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Predator-Prey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. F. Fussmann, S. P. Ellner, K. W. Shertzer and G. Hairston J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2000) 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cience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, 290, 1358-13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ig. 1. Population dynamics predicted by the original model (left panels) and observed in the chemostat experiments (right panels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-"/>
          <p:cNvPicPr/>
          <p:nvPr/>
        </p:nvPicPr>
        <p:blipFill>
          <a:blip r:embed="rId2"/>
          <a:stretch/>
        </p:blipFill>
        <p:spPr>
          <a:xfrm>
            <a:off x="3043080" y="54288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x"/>
          <p:cNvPicPr/>
          <p:nvPr/>
        </p:nvPicPr>
        <p:blipFill>
          <a:blip r:embed="rId3"/>
          <a:stretch/>
        </p:blipFill>
        <p:spPr>
          <a:xfrm>
            <a:off x="3835440" y="5428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-"/>
          <p:cNvPicPr/>
          <p:nvPr/>
        </p:nvPicPr>
        <p:blipFill>
          <a:blip r:embed="rId4"/>
          <a:stretch/>
        </p:blipFill>
        <p:spPr>
          <a:xfrm>
            <a:off x="4532400" y="542880"/>
            <a:ext cx="75960" cy="38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-"/>
          <p:cNvPicPr/>
          <p:nvPr/>
        </p:nvPicPr>
        <p:blipFill>
          <a:blip r:embed="rId5"/>
          <a:stretch/>
        </p:blipFill>
        <p:spPr>
          <a:xfrm>
            <a:off x="5337000" y="54288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-"/>
          <p:cNvPicPr/>
          <p:nvPr/>
        </p:nvPicPr>
        <p:blipFill>
          <a:blip r:embed="rId6"/>
          <a:stretch/>
        </p:blipFill>
        <p:spPr>
          <a:xfrm>
            <a:off x="7000920" y="54288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-"/>
          <p:cNvPicPr/>
          <p:nvPr/>
        </p:nvPicPr>
        <p:blipFill>
          <a:blip r:embed="rId7"/>
          <a:stretch/>
        </p:blipFill>
        <p:spPr>
          <a:xfrm>
            <a:off x="1192320" y="679320"/>
            <a:ext cx="75960" cy="38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delta"/>
          <p:cNvPicPr/>
          <p:nvPr/>
        </p:nvPicPr>
        <p:blipFill>
          <a:blip r:embed="rId8"/>
          <a:stretch/>
        </p:blipFill>
        <p:spPr>
          <a:xfrm>
            <a:off x="2806560" y="679320"/>
            <a:ext cx="76320" cy="10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delta"/>
          <p:cNvPicPr/>
          <p:nvPr/>
        </p:nvPicPr>
        <p:blipFill>
          <a:blip r:embed="rId9"/>
          <a:stretch/>
        </p:blipFill>
        <p:spPr>
          <a:xfrm>
            <a:off x="5427720" y="679320"/>
            <a:ext cx="76320" cy="104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delta"/>
          <p:cNvPicPr/>
          <p:nvPr/>
        </p:nvPicPr>
        <p:blipFill>
          <a:blip r:embed="rId10"/>
          <a:stretch/>
        </p:blipFill>
        <p:spPr>
          <a:xfrm>
            <a:off x="6140520" y="679320"/>
            <a:ext cx="75960" cy="1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delta"/>
          <p:cNvPicPr/>
          <p:nvPr/>
        </p:nvPicPr>
        <p:blipFill>
          <a:blip r:embed="rId11"/>
          <a:stretch/>
        </p:blipFill>
        <p:spPr>
          <a:xfrm>
            <a:off x="7418520" y="679320"/>
            <a:ext cx="75960" cy="1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1143000" y="533520"/>
            <a:ext cx="701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would like to 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data to estimate dilution rat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 the fit to the data based on the differential equatio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 for some unexplained residual variatio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eliver a reasonable confidence interval for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s for the interaction of prey and predators date back to the beginning of th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(Volterra-Lotke equa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me conditions, both predator and prey populations oscil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amous Canadian lynx data show this, for exam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xperi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ank contains a species of algae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lorella vulgar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trogen is the resource that limits algae growth, and this is controlled in the experi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dator is a planktonic rotifer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chionis calyciflo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at feeds on the alga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riab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itrogen concentration: prey nutr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ey concentration -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lor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edator concentration - Reproduc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chio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otal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chion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44400" y="2162160"/>
          <a:ext cx="778032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400" y="2162160"/>
                    <a:ext cx="77803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dator-Prey differential equ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98560" y="64620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two F functions are thresholding functions that vary between zero and an upper asympto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3000" y="3108240"/>
          <a:ext cx="601668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08240"/>
                    <a:ext cx="60166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rimental Consta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3.30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2.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4.3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5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0.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0.0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0.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odel parameter </a:t>
            </a:r>
            <a:r>
              <a:rPr b="0" i="1" lang="el-GR" sz="4000" spc="-1" strike="noStrike">
                <a:solidFill>
                  <a:srgbClr val="e5ffff"/>
                </a:solidFill>
                <a:latin typeface="Tahoma"/>
              </a:rPr>
              <a:t>δ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(dilution level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arameter controls how rapidly the tank nitrogen level responds to a change in input nitrogen, and also how rapidly the prey population responds to this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99072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low dilution level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, both predator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nd prey populations decay to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medium rates, the two popula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re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higher rates, the two  popula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oscil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even higher rates, the tw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populations again deca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6:47:38Z</dcterms:created>
  <dc:creator>Gregor</dc:creator>
  <dc:description/>
  <dc:language>en-US</dc:language>
  <cp:lastModifiedBy>ramsay</cp:lastModifiedBy>
  <dcterms:modified xsi:type="dcterms:W3CDTF">2004-12-09T15:11:32Z</dcterms:modified>
  <cp:revision>14</cp:revision>
  <dc:subject/>
  <dc:title>Slide 1</dc:title>
</cp:coreProperties>
</file>