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BDE-C511-47D2-8158-409F1162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5F1-54A6-423D-B80F-2B23453E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6D3-7E29-4CF2-AABB-1F93C413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68E-0FAD-4E10-AC24-D88AB87C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CC56-D675-497B-8080-3AA2415E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3531-6551-4DDA-8C46-988618FF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3889-1AAD-44E2-8779-469001F6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CA7A-ACFC-4324-B131-BA3FBDCC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81B4-7535-47B5-9D75-A61B565F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C067-2F21-4A03-BB50-B001C9F7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93FD-25FD-4DC3-A3C6-0647DBC5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840-A9AA-4306-93E7-31F5332A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99D1-FF3A-4CF8-B73B-C34BF86E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EC58-59E0-42A1-A624-96D340C0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2ED5-2D0B-4EC3-92B2-72D6857C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6948-223D-4453-B44F-28C2048C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8B13-A273-4141-8C27-B7E37AFA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73C-D945-43B5-B361-7C00F0E1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62F-8BB8-4908-826B-817C220B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720-7158-4C07-A651-B76F1A38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3FF-961D-411E-BF5F-DC346EEF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8B9-96E4-4FF6-B0BA-D9558D5F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758-4556-441D-BE15-194DCF33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34C-B7CF-4584-809A-4D18AE7C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2271-F213-4A6C-8BE8-6048234C2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23CF-2949-4C51-B8C2-BB98DDD043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ychometrics, Dynamics, and  Functional Data Analy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m Rams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Gill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814320" y="2698920"/>
            <a:ext cx="184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view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Simple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3504960"/>
            <a:ext cx="7010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brainergy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E/d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brain po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 input function of time, such as educ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constants,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&gt; 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380960" y="1539720"/>
          <a:ext cx="5923080" cy="254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80960" y="1539720"/>
                    <a:ext cx="5923080" cy="25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600200" y="35053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differential equations don’t have explicit solutions, but this one d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 brainergy at tim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 =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which will often b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19320" y="2666880"/>
          <a:ext cx="635472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666880"/>
                    <a:ext cx="635472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762120" y="4419720"/>
            <a:ext cx="763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see what happens when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=1,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aries,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step fu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1523880" y="5562720"/>
          <a:ext cx="6354720" cy="108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5562720"/>
                    <a:ext cx="6354720" cy="10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lop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e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oes positive i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rols how fast the system responds to the in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system is a problem solver, the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indicates how quickly the person learns to solve a probl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about 4/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ime units, full capacity is reached, and the system is ready for more in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tting Differential Equ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noisy discrete-time data, and want to use them to estimate a differential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a solu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the equation to fit the data as well as pos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lots of flexibility in choosing a differential equation, and we can’t assume that there is an explicit solution to the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unctional Data Analy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llection of methods for analyzing curves or functions as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mmon theme is using derivatives in various 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 Ramsay and Silverman (1997)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unctional Data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Spri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Ramsay and Silverman (2002) Applie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unctional Data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Spri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wo Functional Data Analysis Techniqu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-spline Smooth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given noisy data and a differential equation, find a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will smooth the data and at the same time be nearly a solution to the differential equat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incipal Differential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given a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stimate a linear differential equation for which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so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stimating a DIFE from noisy dat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’ve recently combined these two methods into a technique for estimating a differential equation from noisy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ur simple example, this amounts to estimating parameters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much more complex DIFE’s can be estimated as well, including linear or nonlinear, and single or multiple variable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 Oil Refine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are some data from an oil refinery in Corpus Chri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reflux flow) is negatively coupled to the out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tray 47 level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mooth curve is a solution to the differential equation that best represents this relationshi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045120" cy="502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12440" y="5467320"/>
            <a:ext cx="69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haps this oil refinery is not too smar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ng as Input/Output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est score is actually a derivative with respect to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quently a differential equation model for testing data seems na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testing data will be more and more import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ave some new tools for working with dynamic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let’s consider how to use time as a covari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situations will call for multiple outputs: Performance with a putter, a driver, and an iron, for example.  Or in algebra and geomet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many situations will involve multiple inputs: Regular classes, tutoring sessions, labs and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chnology used in these illustrations can handle these situations, at least for linear differential equations.  Nonlinear equations don’t pose any problem in princi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Simulated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agine that the data are golf scores over successive games, and that the input is a set of three equally-spaced lessons from a golf pro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llowing slides show three golfers.  Which is a future Tiger Woods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324480" cy="528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78760" y="594360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lessons are nicely ti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324480" cy="5283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47920" y="5943600"/>
            <a:ext cx="74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erson needs to find another spor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6324840" cy="5283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92280" y="5695920"/>
            <a:ext cx="73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erson should get lessons more oft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s this Model Good Enough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ying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be constant is too simple.  Allowing for fatigue, boredom, and other things requires a functio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irst order equation can’t allow for sudden transient effects like insight.  We may need a differential equation involving higher derivat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need nonlinear equations as w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Nonlinear Differential Equ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89080" y="1600200"/>
          <a:ext cx="6840360" cy="24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9080" y="1600200"/>
                    <a:ext cx="68403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93640" y="3994200"/>
            <a:ext cx="7940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mmed output from these two equations will exhibit both the rapid learning and long-term retention  required of human lear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 H. R. Wilson (1999)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pikes, Decisions and Actions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xford, for many more examples of differential equation models in neurosc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rol Theory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ineers who work with input/output systems have developed ways of designing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feedback loop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optimize output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’re working with a team of chemical engineers at Queen’s Univers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Where Would the Data Come From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we design customized learning situations, like golf, and track how a learner makes progress as a function of time and inpu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haps video and computer games are nearly what we n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lready know that people will pay big money to have these experien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corporations with deep pockets pay for this kind of testing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namic testing would generate performance data over time that depend on one or more functional covari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tools are available for these data that fit them with a differential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Dynamic psychometr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ooks promis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arning to Play Gol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buy some clubs. We play a few games, each being an 18 item test. It’s harder than it loo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take a lesson.  We play a few games.  Our score improves to a better lev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take another lesson, play some games, and things improve ag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question: How quickly is a lesson reflected in an improvement in sco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ainer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is defined as “the capacity to do work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netic energy E = M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2, and involves mass, distance, and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interested in “the capacity to solve problem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involve difficulties (=mass), number of problems (=distance) and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call mental energy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rainer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ounts is problem solving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= energy expended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in pow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maximum difficulty of problem solvable per unit time, 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lighter problems solved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is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in power = d brainergy/d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ain Power and Time Sc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need the concept of brain power when we consider intelligence on two time sc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Long ter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 How much knowledge is available over large time intervals, like a school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Short ter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How much new knowledge can be acquired over a short time interval, like a single cla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sts Measure 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tal tests and psychological scales are one of the greatest technological achievements of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s work so well because they are time-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scores reflect brain power rather than brainer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puts to 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on about the structure of the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et of tools to solve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ning in the use of these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se require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s to acquisition of brain power are functions of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Differential Equation in Ti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ks one or more time-derivatives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x/dt, d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/dt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…, to the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t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model for system dynamics: change over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also include one or more input or covariate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long-term descrip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x/d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short-term descrip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3:21:53Z</dcterms:created>
  <dc:creator>J. O. Ramsay</dc:creator>
  <dc:description/>
  <dc:language>en-US</dc:language>
  <cp:lastModifiedBy>ramsay</cp:lastModifiedBy>
  <dcterms:modified xsi:type="dcterms:W3CDTF">2003-10-17T06:02:12Z</dcterms:modified>
  <cp:revision>18</cp:revision>
  <dc:subject/>
  <dc:title>Psychometrics, Dynamics, and  Functional Data Analysis</dc:title>
</cp:coreProperties>
</file>