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14.pct" ContentType="image/x-pict"/>
  <Override PartName="/ppt/media/image3.png" ContentType="image/png"/>
  <Override PartName="/ppt/media/image4.png" ContentType="image/png"/>
  <Override PartName="/ppt/media/image6.pct" ContentType="image/x-pict"/>
  <Override PartName="/ppt/media/image9.png" ContentType="image/png"/>
  <Override PartName="/ppt/media/image7.pct" ContentType="image/x-pict"/>
  <Override PartName="/ppt/media/image12.pct" ContentType="image/x-pict"/>
  <Override PartName="/ppt/media/image8.png" ContentType="image/png"/>
  <Override PartName="/ppt/media/image11.png" ContentType="image/png"/>
  <Override PartName="/ppt/media/image13.pct" ContentType="image/x-pict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1039-B55E-4346-9329-3F1443A3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6A29-938A-461F-85CB-A486B663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201D-1F2C-4C57-9563-6444D95A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57CA-863D-41B6-B60C-598B9E61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3419-7723-478A-B440-E77544CF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BE59-81C5-4E45-B658-5C9B6FF2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6411-C70F-458C-B100-F22FCB37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8D4D-9A31-4D21-8242-5E89B768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45F0-2E18-47AB-A24C-D60233F3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2567-0E7D-4AAA-9928-FEAC5E38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AD9D-0550-4712-A2EA-61188AF9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6968-F3F5-4BB0-9E2F-FA852A57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D3B0-1DEB-47A4-8034-018A9FBE5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72360" y="333360"/>
            <a:ext cx="687600" cy="473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68360" y="1341360"/>
            <a:ext cx="813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ting Process Behaviour Us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im McLel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artment of Chemical Engin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en’s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ngston,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mes.mclellan@chee.queensu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3613-3428-45D1-A3D6-B500E86456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Data Analysis (F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s a statistical framework in which the data object is a function of one or more independent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ques have been developed and used for analyzing handwriting, lip motion, horse gait data, analyzing weather data, eye-hand response times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mary reference – Ramsay and Silverman (1997, 2002) –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DA toolbox for Matlab available free from Jim Ramsay web si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www.psych.mcgill.ca/faculty/ramsay.htm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Datasets consist of collections of functional observati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 observations (realizations) of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esponse function – e.g., temperature profiles for different runs in a batch reactor – {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), 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),…, 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)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servations of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unctional responses – e.g., time traces for valve input and temperature – {u(t), y(t)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BA6F-7280-47B3-85B5-8DBE103903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Data Analysis (F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DA is a statistical framework for functio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summary measures defin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ple aver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ple vari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ple covariance, sample cross-covariance, sample covariance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843280" y="3476520"/>
                <a:ext cx="17287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927080" y="4775040"/>
                <a:ext cx="300528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067280" y="3213000"/>
                <a:ext cx="2038320" cy="266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6237720" y="4005360"/>
            <a:ext cx="2377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 that the </a:t>
            </a:r>
            <a:r>
              <a:rPr b="0" lang="en-US" sz="1400" spc="-1" strike="noStrike">
                <a:solidFill>
                  <a:srgbClr val="990000"/>
                </a:solidFill>
                <a:latin typeface="Arial"/>
              </a:rPr>
              <a:t>result is a </a:t>
            </a:r>
            <a:br>
              <a:rPr sz="1400"/>
            </a:br>
            <a:r>
              <a:rPr b="0" lang="en-US" sz="1400" spc="-1" strike="noStrike">
                <a:solidFill>
                  <a:srgbClr val="990000"/>
                </a:solidFill>
                <a:latin typeface="Arial"/>
              </a:rPr>
              <a:t>function of the independent</a:t>
            </a:r>
            <a:br>
              <a:rPr sz="1400"/>
            </a:br>
            <a:r>
              <a:rPr b="0" lang="en-US" sz="1400" spc="-1" strike="noStrike">
                <a:solidFill>
                  <a:srgbClr val="990000"/>
                </a:solidFill>
                <a:latin typeface="Arial"/>
              </a:rPr>
              <a:t>varia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verage function,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iance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FE16-E011-4F4F-8D62-2FE633D798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 objects are continuous functions of an independent variabl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observations are typically taken at discrete intervals – not necessarily uniform – and functional observations are constructed using appropriate basis functions -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mo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367000" y="2614680"/>
            <a:ext cx="2275920" cy="814320"/>
            <a:chOff x="2367000" y="2614680"/>
            <a:chExt cx="2275920" cy="814320"/>
          </a:xfrm>
        </p:grpSpPr>
        <p:sp>
          <p:nvSpPr>
            <p:cNvPr id="128" name=""/>
            <p:cNvSpPr/>
            <p:nvPr/>
          </p:nvSpPr>
          <p:spPr>
            <a:xfrm>
              <a:off x="2509560" y="2781360"/>
              <a:ext cx="0" cy="64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67000" y="3286080"/>
              <a:ext cx="22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11000" y="2643120"/>
              <a:ext cx="2064960" cy="384120"/>
            </a:xfrm>
            <a:custGeom>
              <a:avLst/>
              <a:gdLst/>
              <a:ahLst/>
              <a:rect l="l" t="t" r="r" b="b"/>
              <a:pathLst>
                <a:path w="1301" h="242">
                  <a:moveTo>
                    <a:pt x="0" y="200"/>
                  </a:moveTo>
                  <a:cubicBezTo>
                    <a:pt x="16" y="170"/>
                    <a:pt x="17" y="137"/>
                    <a:pt x="42" y="112"/>
                  </a:cubicBezTo>
                  <a:cubicBezTo>
                    <a:pt x="59" y="76"/>
                    <a:pt x="40" y="106"/>
                    <a:pt x="70" y="84"/>
                  </a:cubicBezTo>
                  <a:cubicBezTo>
                    <a:pt x="129" y="41"/>
                    <a:pt x="162" y="13"/>
                    <a:pt x="237" y="0"/>
                  </a:cubicBezTo>
                  <a:cubicBezTo>
                    <a:pt x="293" y="9"/>
                    <a:pt x="281" y="30"/>
                    <a:pt x="307" y="70"/>
                  </a:cubicBezTo>
                  <a:cubicBezTo>
                    <a:pt x="323" y="95"/>
                    <a:pt x="392" y="165"/>
                    <a:pt x="418" y="181"/>
                  </a:cubicBezTo>
                  <a:cubicBezTo>
                    <a:pt x="428" y="194"/>
                    <a:pt x="445" y="215"/>
                    <a:pt x="460" y="223"/>
                  </a:cubicBezTo>
                  <a:cubicBezTo>
                    <a:pt x="475" y="231"/>
                    <a:pt x="507" y="242"/>
                    <a:pt x="507" y="242"/>
                  </a:cubicBezTo>
                  <a:cubicBezTo>
                    <a:pt x="567" y="236"/>
                    <a:pt x="621" y="224"/>
                    <a:pt x="683" y="218"/>
                  </a:cubicBezTo>
                  <a:cubicBezTo>
                    <a:pt x="703" y="198"/>
                    <a:pt x="723" y="189"/>
                    <a:pt x="748" y="177"/>
                  </a:cubicBezTo>
                  <a:cubicBezTo>
                    <a:pt x="766" y="149"/>
                    <a:pt x="778" y="159"/>
                    <a:pt x="813" y="163"/>
                  </a:cubicBezTo>
                  <a:cubicBezTo>
                    <a:pt x="865" y="178"/>
                    <a:pt x="934" y="135"/>
                    <a:pt x="985" y="126"/>
                  </a:cubicBezTo>
                  <a:cubicBezTo>
                    <a:pt x="1002" y="114"/>
                    <a:pt x="1013" y="102"/>
                    <a:pt x="1032" y="93"/>
                  </a:cubicBezTo>
                  <a:cubicBezTo>
                    <a:pt x="1080" y="41"/>
                    <a:pt x="1169" y="43"/>
                    <a:pt x="1236" y="33"/>
                  </a:cubicBezTo>
                  <a:cubicBezTo>
                    <a:pt x="1248" y="36"/>
                    <a:pt x="1261" y="39"/>
                    <a:pt x="1273" y="42"/>
                  </a:cubicBezTo>
                  <a:cubicBezTo>
                    <a:pt x="1282" y="44"/>
                    <a:pt x="1301" y="47"/>
                    <a:pt x="1301" y="47"/>
                  </a:cubicBezTo>
                </a:path>
              </a:pathLst>
            </a:custGeom>
            <a:noFill/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04880" y="2614680"/>
              <a:ext cx="2138040" cy="471240"/>
            </a:xfrm>
            <a:custGeom>
              <a:avLst/>
              <a:gdLst/>
              <a:ahLst/>
              <a:rect l="l" t="t" r="r" b="b"/>
              <a:pathLst>
                <a:path w="1347" h="297">
                  <a:moveTo>
                    <a:pt x="0" y="153"/>
                  </a:moveTo>
                  <a:cubicBezTo>
                    <a:pt x="20" y="173"/>
                    <a:pt x="46" y="205"/>
                    <a:pt x="74" y="213"/>
                  </a:cubicBezTo>
                  <a:cubicBezTo>
                    <a:pt x="83" y="222"/>
                    <a:pt x="98" y="227"/>
                    <a:pt x="107" y="236"/>
                  </a:cubicBezTo>
                  <a:cubicBezTo>
                    <a:pt x="122" y="251"/>
                    <a:pt x="128" y="268"/>
                    <a:pt x="144" y="283"/>
                  </a:cubicBezTo>
                  <a:cubicBezTo>
                    <a:pt x="168" y="274"/>
                    <a:pt x="196" y="235"/>
                    <a:pt x="223" y="218"/>
                  </a:cubicBezTo>
                  <a:cubicBezTo>
                    <a:pt x="263" y="156"/>
                    <a:pt x="322" y="137"/>
                    <a:pt x="390" y="120"/>
                  </a:cubicBezTo>
                  <a:cubicBezTo>
                    <a:pt x="421" y="112"/>
                    <a:pt x="442" y="93"/>
                    <a:pt x="473" y="88"/>
                  </a:cubicBezTo>
                  <a:cubicBezTo>
                    <a:pt x="483" y="81"/>
                    <a:pt x="498" y="78"/>
                    <a:pt x="506" y="69"/>
                  </a:cubicBezTo>
                  <a:cubicBezTo>
                    <a:pt x="530" y="42"/>
                    <a:pt x="469" y="37"/>
                    <a:pt x="543" y="13"/>
                  </a:cubicBezTo>
                  <a:cubicBezTo>
                    <a:pt x="580" y="1"/>
                    <a:pt x="561" y="5"/>
                    <a:pt x="599" y="0"/>
                  </a:cubicBezTo>
                  <a:cubicBezTo>
                    <a:pt x="633" y="6"/>
                    <a:pt x="668" y="7"/>
                    <a:pt x="701" y="18"/>
                  </a:cubicBezTo>
                  <a:cubicBezTo>
                    <a:pt x="723" y="25"/>
                    <a:pt x="753" y="95"/>
                    <a:pt x="775" y="120"/>
                  </a:cubicBezTo>
                  <a:cubicBezTo>
                    <a:pt x="798" y="146"/>
                    <a:pt x="820" y="146"/>
                    <a:pt x="845" y="167"/>
                  </a:cubicBezTo>
                  <a:cubicBezTo>
                    <a:pt x="878" y="195"/>
                    <a:pt x="891" y="213"/>
                    <a:pt x="933" y="222"/>
                  </a:cubicBezTo>
                  <a:cubicBezTo>
                    <a:pt x="974" y="243"/>
                    <a:pt x="988" y="254"/>
                    <a:pt x="1022" y="288"/>
                  </a:cubicBezTo>
                  <a:cubicBezTo>
                    <a:pt x="1030" y="296"/>
                    <a:pt x="1054" y="297"/>
                    <a:pt x="1054" y="297"/>
                  </a:cubicBezTo>
                  <a:cubicBezTo>
                    <a:pt x="1059" y="294"/>
                    <a:pt x="1063" y="290"/>
                    <a:pt x="1068" y="288"/>
                  </a:cubicBezTo>
                  <a:cubicBezTo>
                    <a:pt x="1074" y="285"/>
                    <a:pt x="1081" y="286"/>
                    <a:pt x="1087" y="283"/>
                  </a:cubicBezTo>
                  <a:cubicBezTo>
                    <a:pt x="1099" y="277"/>
                    <a:pt x="1108" y="267"/>
                    <a:pt x="1119" y="260"/>
                  </a:cubicBezTo>
                  <a:cubicBezTo>
                    <a:pt x="1131" y="234"/>
                    <a:pt x="1145" y="223"/>
                    <a:pt x="1170" y="209"/>
                  </a:cubicBezTo>
                  <a:cubicBezTo>
                    <a:pt x="1178" y="196"/>
                    <a:pt x="1184" y="183"/>
                    <a:pt x="1193" y="171"/>
                  </a:cubicBezTo>
                  <a:cubicBezTo>
                    <a:pt x="1238" y="113"/>
                    <a:pt x="1256" y="113"/>
                    <a:pt x="1328" y="102"/>
                  </a:cubicBezTo>
                  <a:cubicBezTo>
                    <a:pt x="1344" y="96"/>
                    <a:pt x="1338" y="101"/>
                    <a:pt x="1347" y="92"/>
                  </a:cubicBezTo>
                </a:path>
              </a:pathLst>
            </a:custGeom>
            <a:noFill/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427640" y="292428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148360" y="2924280"/>
                <a:ext cx="44604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 flipV="1">
            <a:off x="4500720" y="2422440"/>
            <a:ext cx="360360" cy="21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883040" y="2349360"/>
                <a:ext cx="4795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2509920" y="566100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67000" y="6165720"/>
            <a:ext cx="22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11360" y="5522760"/>
            <a:ext cx="2065320" cy="384480"/>
          </a:xfrm>
          <a:custGeom>
            <a:avLst/>
            <a:gdLst/>
            <a:ahLst/>
            <a:rect l="l" t="t" r="r" b="b"/>
            <a:pathLst>
              <a:path w="1301" h="242">
                <a:moveTo>
                  <a:pt x="0" y="200"/>
                </a:moveTo>
                <a:cubicBezTo>
                  <a:pt x="16" y="170"/>
                  <a:pt x="17" y="137"/>
                  <a:pt x="42" y="112"/>
                </a:cubicBezTo>
                <a:cubicBezTo>
                  <a:pt x="59" y="76"/>
                  <a:pt x="40" y="106"/>
                  <a:pt x="70" y="84"/>
                </a:cubicBezTo>
                <a:cubicBezTo>
                  <a:pt x="129" y="41"/>
                  <a:pt x="162" y="13"/>
                  <a:pt x="237" y="0"/>
                </a:cubicBezTo>
                <a:cubicBezTo>
                  <a:pt x="293" y="9"/>
                  <a:pt x="281" y="30"/>
                  <a:pt x="307" y="70"/>
                </a:cubicBezTo>
                <a:cubicBezTo>
                  <a:pt x="323" y="95"/>
                  <a:pt x="392" y="165"/>
                  <a:pt x="418" y="181"/>
                </a:cubicBezTo>
                <a:cubicBezTo>
                  <a:pt x="428" y="194"/>
                  <a:pt x="445" y="215"/>
                  <a:pt x="460" y="223"/>
                </a:cubicBezTo>
                <a:cubicBezTo>
                  <a:pt x="475" y="231"/>
                  <a:pt x="507" y="242"/>
                  <a:pt x="507" y="242"/>
                </a:cubicBezTo>
                <a:cubicBezTo>
                  <a:pt x="567" y="236"/>
                  <a:pt x="621" y="224"/>
                  <a:pt x="683" y="218"/>
                </a:cubicBezTo>
                <a:cubicBezTo>
                  <a:pt x="703" y="198"/>
                  <a:pt x="723" y="189"/>
                  <a:pt x="748" y="177"/>
                </a:cubicBezTo>
                <a:cubicBezTo>
                  <a:pt x="766" y="149"/>
                  <a:pt x="778" y="159"/>
                  <a:pt x="813" y="163"/>
                </a:cubicBezTo>
                <a:cubicBezTo>
                  <a:pt x="865" y="178"/>
                  <a:pt x="934" y="135"/>
                  <a:pt x="985" y="126"/>
                </a:cubicBezTo>
                <a:cubicBezTo>
                  <a:pt x="1002" y="114"/>
                  <a:pt x="1013" y="102"/>
                  <a:pt x="1032" y="93"/>
                </a:cubicBezTo>
                <a:cubicBezTo>
                  <a:pt x="1080" y="41"/>
                  <a:pt x="1169" y="43"/>
                  <a:pt x="1236" y="33"/>
                </a:cubicBezTo>
                <a:cubicBezTo>
                  <a:pt x="1248" y="36"/>
                  <a:pt x="1261" y="39"/>
                  <a:pt x="1273" y="42"/>
                </a:cubicBezTo>
                <a:cubicBezTo>
                  <a:pt x="1282" y="44"/>
                  <a:pt x="1301" y="47"/>
                  <a:pt x="1301" y="47"/>
                </a:cubicBezTo>
              </a:path>
            </a:pathLst>
          </a:custGeom>
          <a:noFill/>
          <a:ln w="9360">
            <a:solidFill>
              <a:srgbClr val="0066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5240" y="5494320"/>
            <a:ext cx="2138040" cy="471600"/>
          </a:xfrm>
          <a:custGeom>
            <a:avLst/>
            <a:gdLst/>
            <a:ahLst/>
            <a:rect l="l" t="t" r="r" b="b"/>
            <a:pathLst>
              <a:path w="1347" h="297">
                <a:moveTo>
                  <a:pt x="0" y="153"/>
                </a:moveTo>
                <a:cubicBezTo>
                  <a:pt x="20" y="173"/>
                  <a:pt x="46" y="205"/>
                  <a:pt x="74" y="213"/>
                </a:cubicBezTo>
                <a:cubicBezTo>
                  <a:pt x="83" y="222"/>
                  <a:pt x="98" y="227"/>
                  <a:pt x="107" y="236"/>
                </a:cubicBezTo>
                <a:cubicBezTo>
                  <a:pt x="122" y="251"/>
                  <a:pt x="128" y="268"/>
                  <a:pt x="144" y="283"/>
                </a:cubicBezTo>
                <a:cubicBezTo>
                  <a:pt x="168" y="274"/>
                  <a:pt x="196" y="235"/>
                  <a:pt x="223" y="218"/>
                </a:cubicBezTo>
                <a:cubicBezTo>
                  <a:pt x="263" y="156"/>
                  <a:pt x="322" y="137"/>
                  <a:pt x="390" y="120"/>
                </a:cubicBezTo>
                <a:cubicBezTo>
                  <a:pt x="421" y="112"/>
                  <a:pt x="442" y="93"/>
                  <a:pt x="473" y="88"/>
                </a:cubicBezTo>
                <a:cubicBezTo>
                  <a:pt x="483" y="81"/>
                  <a:pt x="498" y="78"/>
                  <a:pt x="506" y="69"/>
                </a:cubicBezTo>
                <a:cubicBezTo>
                  <a:pt x="530" y="42"/>
                  <a:pt x="469" y="37"/>
                  <a:pt x="543" y="13"/>
                </a:cubicBezTo>
                <a:cubicBezTo>
                  <a:pt x="580" y="1"/>
                  <a:pt x="561" y="5"/>
                  <a:pt x="599" y="0"/>
                </a:cubicBezTo>
                <a:cubicBezTo>
                  <a:pt x="633" y="6"/>
                  <a:pt x="668" y="7"/>
                  <a:pt x="701" y="18"/>
                </a:cubicBezTo>
                <a:cubicBezTo>
                  <a:pt x="723" y="25"/>
                  <a:pt x="753" y="95"/>
                  <a:pt x="775" y="120"/>
                </a:cubicBezTo>
                <a:cubicBezTo>
                  <a:pt x="798" y="146"/>
                  <a:pt x="820" y="146"/>
                  <a:pt x="845" y="167"/>
                </a:cubicBezTo>
                <a:cubicBezTo>
                  <a:pt x="878" y="195"/>
                  <a:pt x="891" y="213"/>
                  <a:pt x="933" y="222"/>
                </a:cubicBezTo>
                <a:cubicBezTo>
                  <a:pt x="974" y="243"/>
                  <a:pt x="988" y="254"/>
                  <a:pt x="1022" y="288"/>
                </a:cubicBezTo>
                <a:cubicBezTo>
                  <a:pt x="1030" y="296"/>
                  <a:pt x="1054" y="297"/>
                  <a:pt x="1054" y="297"/>
                </a:cubicBezTo>
                <a:cubicBezTo>
                  <a:pt x="1059" y="294"/>
                  <a:pt x="1063" y="290"/>
                  <a:pt x="1068" y="288"/>
                </a:cubicBezTo>
                <a:cubicBezTo>
                  <a:pt x="1074" y="285"/>
                  <a:pt x="1081" y="286"/>
                  <a:pt x="1087" y="283"/>
                </a:cubicBezTo>
                <a:cubicBezTo>
                  <a:pt x="1099" y="277"/>
                  <a:pt x="1108" y="267"/>
                  <a:pt x="1119" y="260"/>
                </a:cubicBezTo>
                <a:cubicBezTo>
                  <a:pt x="1131" y="234"/>
                  <a:pt x="1145" y="223"/>
                  <a:pt x="1170" y="209"/>
                </a:cubicBezTo>
                <a:cubicBezTo>
                  <a:pt x="1178" y="196"/>
                  <a:pt x="1184" y="183"/>
                  <a:pt x="1193" y="171"/>
                </a:cubicBezTo>
                <a:cubicBezTo>
                  <a:pt x="1238" y="113"/>
                  <a:pt x="1256" y="113"/>
                  <a:pt x="1328" y="102"/>
                </a:cubicBezTo>
                <a:cubicBezTo>
                  <a:pt x="1344" y="96"/>
                  <a:pt x="1338" y="101"/>
                  <a:pt x="1347" y="92"/>
                </a:cubicBezTo>
              </a:path>
            </a:pathLst>
          </a:custGeom>
          <a:noFill/>
          <a:ln w="9360">
            <a:solidFill>
              <a:srgbClr val="33cc3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27280" y="5589720"/>
            <a:ext cx="73080" cy="71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71640" y="5500800"/>
            <a:ext cx="73080" cy="71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5516640"/>
            <a:ext cx="73080" cy="71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60720" y="5718240"/>
            <a:ext cx="73080" cy="71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5854680"/>
            <a:ext cx="73080" cy="71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90920" y="5838840"/>
            <a:ext cx="73080" cy="71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06920" y="5757840"/>
            <a:ext cx="73080" cy="716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67280" y="5661000"/>
            <a:ext cx="73080" cy="716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27640" y="5540400"/>
            <a:ext cx="73080" cy="71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5734080"/>
            <a:ext cx="73080" cy="71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95600" y="5805360"/>
            <a:ext cx="7308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16200" y="5894280"/>
            <a:ext cx="7308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28880" y="5761080"/>
            <a:ext cx="73080" cy="71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08240" y="5635800"/>
            <a:ext cx="73080" cy="71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52960" y="5533920"/>
            <a:ext cx="7272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97320" y="5472000"/>
            <a:ext cx="7308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89200" y="5473800"/>
            <a:ext cx="73080" cy="71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5649840"/>
            <a:ext cx="7308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17880" y="5794200"/>
            <a:ext cx="7308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65560" y="5931000"/>
            <a:ext cx="73080" cy="71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97400" y="5702400"/>
            <a:ext cx="73080" cy="71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268880" y="5086080"/>
            <a:ext cx="287280" cy="43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648320" y="4892760"/>
                <a:ext cx="16477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sis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 flipV="1">
            <a:off x="4356000" y="5807160"/>
            <a:ext cx="793800" cy="6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261040" y="5613480"/>
                <a:ext cx="160164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sis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65" name=""/>
          <p:cNvGrpSpPr/>
          <p:nvPr/>
        </p:nvGrpSpPr>
        <p:grpSpPr>
          <a:xfrm>
            <a:off x="6804000" y="5037120"/>
            <a:ext cx="1974600" cy="946440"/>
            <a:chOff x="6804000" y="5037120"/>
            <a:chExt cx="1974600" cy="946440"/>
          </a:xfrm>
        </p:grpSpPr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6804000" y="5084640"/>
                  <a:ext cx="368280" cy="2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7" name=""/>
            <p:cNvSpPr/>
            <p:nvPr/>
          </p:nvSpPr>
          <p:spPr>
            <a:xfrm>
              <a:off x="7106040" y="5037120"/>
              <a:ext cx="1672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e basis functions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.g., splines,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lynomials,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nusoi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500B-AD97-447C-9F05-770C858AD4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tories about Functional Data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ory #1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ng parameters in differential equation models us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Principal Differential Analysis (PD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M.Sc. student Andy Poyton, Ph.D student Saeed Varzi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Collaboration with Kim McAuley, Jim Ram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y #2 – Obtaining reactor settings for desired molecular weight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s using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unctional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Collaboration with Robin Hutchinson, Hana Sulie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B75A-145F-4B7B-85D0-8B7E7140D2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47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Principal Differential Analysis (PDA) and Why are We Using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A is a technique from Functional Data Analysis (F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A exploits natural smoothness of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s analysis using derivatives and rate 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PDA have potential for estimating parameters in dynamic models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C4DE-1FBE-4DE5-B437-48C364FEE6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ng Differential Equation Models Us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al Differential Analysis (P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 estimation in fundamental dynamic models is difficult and iterative using traditional techniqu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omputational effort arises from repeated numerical solution of 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734C-4A48-40B7-8B87-3666E5CB1D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ng Differential Equation Models Us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al Differential Analysis (P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 estimation in fundamental dynamic models is difficult and iterative using traditional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omputational effort arises from repeated numerical solution of OD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1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12b"/>
                </a:solidFill>
                <a:latin typeface="Arial"/>
              </a:rPr>
              <a:t>Principal Differential Analysi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12b"/>
                </a:solidFill>
                <a:latin typeface="Arial"/>
              </a:rPr>
              <a:t>(PDA)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es smoothing of dynamic data to provide time deriv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nverts ODE estimation to an algebraic probl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liminates need to solve dynamic equations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stimates parameters so that differential equation models are satisfied by observed functional responses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943360" y="5438880"/>
                <a:ext cx="21333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αy</m:t>
                    </m:r>
                    <m:r>
                      <m:t xml:space="preserve">−</m:t>
                    </m:r>
                    <m:r>
                      <m:t xml:space="preserve">βu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1BFD-2B68-4490-8AED-B935F28A69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step in any functional data analysis is to obtain a functional representation of the dat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rete data are represented as a function of time using basis functions, rather than as a collection of discrete set of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24000" y="2725560"/>
            <a:ext cx="8474040" cy="1855800"/>
            <a:chOff x="324000" y="2725560"/>
            <a:chExt cx="8474040" cy="1855800"/>
          </a:xfrm>
        </p:grpSpPr>
        <p:grpSp>
          <p:nvGrpSpPr>
            <p:cNvPr id="180" name=""/>
            <p:cNvGrpSpPr/>
            <p:nvPr/>
          </p:nvGrpSpPr>
          <p:grpSpPr>
            <a:xfrm>
              <a:off x="324000" y="2725560"/>
              <a:ext cx="2598480" cy="1855800"/>
              <a:chOff x="324000" y="2725560"/>
              <a:chExt cx="2598480" cy="1855800"/>
            </a:xfrm>
          </p:grpSpPr>
          <p:pic>
            <p:nvPicPr>
              <p:cNvPr id="18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3720" y="2739600"/>
                <a:ext cx="2578320" cy="184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>
                <a:off x="324000" y="2725560"/>
                <a:ext cx="2598480" cy="18403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3541680" y="3106800"/>
              <a:ext cx="2274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moothing using basis func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7440" y="3706920"/>
              <a:ext cx="1969920" cy="504720"/>
            </a:xfrm>
            <a:prstGeom prst="rightArrow">
              <a:avLst>
                <a:gd name="adj1" fmla="val 50000"/>
                <a:gd name="adj2" fmla="val 97575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6195960" y="2725560"/>
              <a:ext cx="2602080" cy="1852920"/>
              <a:chOff x="6195960" y="2725560"/>
              <a:chExt cx="2602080" cy="1852920"/>
            </a:xfrm>
          </p:grpSpPr>
          <p:pic>
            <p:nvPicPr>
              <p:cNvPr id="18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195960" y="2725560"/>
                <a:ext cx="2591640" cy="185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6195960" y="2731680"/>
                <a:ext cx="2602080" cy="18439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F048-1F92-43BF-A043-4A80E91980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step in any functional data analysis is to obtain a functional representation of the dat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rete data are represented as a function of time using basis functions, rather than as a collection of discrete set of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data are a set of cur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ne pair of curves for each r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data objects are linear combinations of known basis functions (e.g., B-spli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24000" y="2725560"/>
            <a:ext cx="8474040" cy="1855800"/>
            <a:chOff x="324000" y="2725560"/>
            <a:chExt cx="8474040" cy="1855800"/>
          </a:xfrm>
        </p:grpSpPr>
        <p:grpSp>
          <p:nvGrpSpPr>
            <p:cNvPr id="191" name=""/>
            <p:cNvGrpSpPr/>
            <p:nvPr/>
          </p:nvGrpSpPr>
          <p:grpSpPr>
            <a:xfrm>
              <a:off x="324000" y="2725560"/>
              <a:ext cx="2598480" cy="1855800"/>
              <a:chOff x="324000" y="2725560"/>
              <a:chExt cx="2598480" cy="1855800"/>
            </a:xfrm>
          </p:grpSpPr>
          <p:pic>
            <p:nvPicPr>
              <p:cNvPr id="19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3720" y="2739600"/>
                <a:ext cx="2578320" cy="184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324000" y="2725560"/>
                <a:ext cx="2598480" cy="18403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3541680" y="3106800"/>
              <a:ext cx="2274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moothing using basis func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27440" y="3706920"/>
              <a:ext cx="1969920" cy="504720"/>
            </a:xfrm>
            <a:prstGeom prst="rightArrow">
              <a:avLst>
                <a:gd name="adj1" fmla="val 50000"/>
                <a:gd name="adj2" fmla="val 97575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6195960" y="2725560"/>
              <a:ext cx="2602080" cy="1852920"/>
              <a:chOff x="6195960" y="2725560"/>
              <a:chExt cx="2602080" cy="1852920"/>
            </a:xfrm>
          </p:grpSpPr>
          <p:pic>
            <p:nvPicPr>
              <p:cNvPr id="19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195960" y="2725560"/>
                <a:ext cx="2591640" cy="185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>
                <a:off x="6195960" y="2731680"/>
                <a:ext cx="2602080" cy="18439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773680" y="4941720"/>
                <a:ext cx="16066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294080" y="5661000"/>
                <a:ext cx="22939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93E0-9E13-4C59-A195-90F9328679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step in any functional data analysis is to obtain a functional representation of the dat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rete data are represented as a function of time using basis functions, rather than as a collection of discrete set of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data are a set of cur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ne pair of curves for each r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data objects are linear combinations of known basis functions (e.g., B-spli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24000" y="2725560"/>
            <a:ext cx="8474040" cy="1855800"/>
            <a:chOff x="324000" y="2725560"/>
            <a:chExt cx="8474040" cy="1855800"/>
          </a:xfrm>
        </p:grpSpPr>
        <p:grpSp>
          <p:nvGrpSpPr>
            <p:cNvPr id="204" name=""/>
            <p:cNvGrpSpPr/>
            <p:nvPr/>
          </p:nvGrpSpPr>
          <p:grpSpPr>
            <a:xfrm>
              <a:off x="324000" y="2725560"/>
              <a:ext cx="2598480" cy="1855800"/>
              <a:chOff x="324000" y="2725560"/>
              <a:chExt cx="2598480" cy="1855800"/>
            </a:xfrm>
          </p:grpSpPr>
          <p:pic>
            <p:nvPicPr>
              <p:cNvPr id="20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3720" y="2739600"/>
                <a:ext cx="2578320" cy="184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>
                <a:off x="324000" y="2725560"/>
                <a:ext cx="2598480" cy="18403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3541680" y="3106800"/>
              <a:ext cx="2274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moothing using basis func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27440" y="3706920"/>
              <a:ext cx="1969920" cy="504720"/>
            </a:xfrm>
            <a:prstGeom prst="rightArrow">
              <a:avLst>
                <a:gd name="adj1" fmla="val 50000"/>
                <a:gd name="adj2" fmla="val 97575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6195960" y="2725560"/>
              <a:ext cx="2602080" cy="1852920"/>
              <a:chOff x="6195960" y="2725560"/>
              <a:chExt cx="2602080" cy="1852920"/>
            </a:xfrm>
          </p:grpSpPr>
          <p:pic>
            <p:nvPicPr>
              <p:cNvPr id="21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195960" y="2725560"/>
                <a:ext cx="2591640" cy="185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>
                <a:off x="6195960" y="2731680"/>
                <a:ext cx="2602080" cy="18439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773680" y="4941720"/>
                <a:ext cx="16066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4294080" y="5661000"/>
                <a:ext cx="22939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4427640" y="6093000"/>
            <a:ext cx="30456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61CE-228F-415D-9EB1-11EB413F3C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Data Analysis (F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FDA is an evolving statistical framework in which responses are profiles, not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EFE2-1D15-4D84-A9CA-3178E338A1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al Differentia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 model fit by how well           and            satisfy the 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for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itute in the smoothed curves and their derivatives, and the predicted parameter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ing a residual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parameters      and      to minimize the squared residual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464080" y="1596960"/>
                <a:ext cx="6206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211640" y="1573200"/>
                <a:ext cx="6462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292480" y="2006640"/>
                <a:ext cx="20811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αy</m:t>
                    </m:r>
                    <m:r>
                      <m:t xml:space="preserve">−</m:t>
                    </m:r>
                    <m:r>
                      <m:t xml:space="preserve">βu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029120" y="4470480"/>
                <a:ext cx="38088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344760" y="4772160"/>
                <a:ext cx="2556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α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172040" y="4724280"/>
                <a:ext cx="2556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895480" y="3581280"/>
                <a:ext cx="276876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−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α</m:t>
                        </m:r>
                      </m:e>
                    </m:acc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895480" y="5334120"/>
            <a:ext cx="2298960" cy="92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3282-9E1C-4F54-8E2A-FF61C23288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A Parameter Estimation is a two-step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-361800">
              <a:spcBef>
                <a:spcPts val="499"/>
              </a:spcBef>
              <a:buClr>
                <a:srgbClr val="00cc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Data are smoothed and put in functional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81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581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58120" indent="-289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s are spline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581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58120" indent="-289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ghness penalties on higher-order derivatives of             can be used to adjust smooth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cc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Squared residual curve is minimized to obtain parame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estima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and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umerical solution of the ODE is required. Differentiate            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854360" y="1905120"/>
                <a:ext cx="26463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lim>
                    </m:limLow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16360" y="2165400"/>
                <a:ext cx="19814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372360" y="2997360"/>
                <a:ext cx="609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8543880" y="3573360"/>
                <a:ext cx="2761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α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403280" y="3852720"/>
                <a:ext cx="2761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232" name=""/>
          <p:cNvGrpSpPr/>
          <p:nvPr/>
        </p:nvGrpSpPr>
        <p:grpSpPr>
          <a:xfrm>
            <a:off x="2343240" y="4006800"/>
            <a:ext cx="4316400" cy="1582560"/>
            <a:chOff x="2343240" y="4006800"/>
            <a:chExt cx="4316400" cy="1582560"/>
          </a:xfrm>
        </p:grpSpPr>
        <p:sp>
          <p:nvSpPr>
            <p:cNvPr id="233" name=""/>
            <p:cNvSpPr/>
            <p:nvPr/>
          </p:nvSpPr>
          <p:spPr>
            <a:xfrm rot="5400000">
              <a:off x="4551480" y="3678120"/>
              <a:ext cx="231840" cy="2819520"/>
            </a:xfrm>
            <a:custGeom>
              <a:avLst/>
              <a:gdLst>
                <a:gd name="textAreaLeft" fmla="*/ 0 w 231840"/>
                <a:gd name="textAreaRight" fmla="*/ 83520 w 231840"/>
                <a:gd name="textAreaTop" fmla="*/ 73440 h 2819520"/>
                <a:gd name="textAreaBottom" fmla="*/ 2746080 h 281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2343240" y="4006800"/>
                  <a:ext cx="431640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e>
                        <m:lim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α</m:t>
                              </m:r>
                            </m:e>
                          </m:acc>
                          <m:r>
                            <m:t xml:space="preserve">,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β</m:t>
                              </m:r>
                            </m:e>
                          </m:acc>
                        </m:lim>
                      </m:limLow>
                      <m:d>
                        <m:dPr>
                          <m:begChr m:val="{"/>
                          <m:endChr m:val="}"/>
                        </m:dPr>
                        <m:e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p>
                                <m:e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dy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~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(</m:t>
                                          </m:r>
                                          <m:r>
                                            <m:t xml:space="preserve">t</m:t>
                                          </m:r>
                                          <m:r>
                                            <m:t xml:space="preserve">)</m:t>
                                          </m:r>
                                        </m:num>
                                        <m:den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dt</m:t>
                                          </m:r>
                                        </m:den>
                                      </m:f>
                                      <m:r>
                                        <m:t xml:space="preserve">−</m:t>
                                      </m:r>
                                      <m:acc>
                                        <m:accPr>
                                          <m:chr m:val="^"/>
                                        </m:accPr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</m:acc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~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  <m:r>
                                        <m:t xml:space="preserve">−</m:t>
                                      </m:r>
                                      <m:acc>
                                        <m:accPr>
                                          <m:chr m:val="^"/>
                                        </m:accPr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</m:acc>
                                      <m:sSub>
                                        <m:e>
                                          <m:r>
                                            <m:t xml:space="preserve">u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~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4426200" y="5213160"/>
                  <a:ext cx="52524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ε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6" name=""/>
          <p:cNvSpPr/>
          <p:nvPr/>
        </p:nvSpPr>
        <p:spPr>
          <a:xfrm>
            <a:off x="674640" y="5661000"/>
            <a:ext cx="152280" cy="1522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098800" y="5877000"/>
                <a:ext cx="5284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6950160" y="5557680"/>
                <a:ext cx="6462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402C-C668-4400-B408-3349011A9A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A Parameter Estimation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ized CSTR model to produce example with known analytical sol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linear ODE, 2 nonlinear parameters to estimat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simulated responses with white no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d PDA estimation with conventional nonlinear least squares esti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ing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sion and bias of parameter esti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sion and bias of model predi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C25F-2E07-4818-A0D5-0DDCFE5B0B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ized Non-Isothermal CST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ized model with nonlinear parameter dependence (Marlin, 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– reactor temperature 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erfect T contr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inlet concentration and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are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/R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 values ar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1.0 x 10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in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/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8330.1 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11280" y="4035600"/>
            <a:ext cx="4876560" cy="2633400"/>
            <a:chOff x="611280" y="4035600"/>
            <a:chExt cx="4876560" cy="2633400"/>
          </a:xfrm>
        </p:grpSpPr>
        <p:sp>
          <p:nvSpPr>
            <p:cNvPr id="244" name=""/>
            <p:cNvSpPr/>
            <p:nvPr/>
          </p:nvSpPr>
          <p:spPr>
            <a:xfrm>
              <a:off x="2322360" y="4619520"/>
              <a:ext cx="0" cy="15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89400" y="5202360"/>
              <a:ext cx="0" cy="91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22360" y="6119640"/>
              <a:ext cx="19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1280" y="436896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79760" y="4368960"/>
              <a:ext cx="0" cy="51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2968200" y="4119480"/>
              <a:ext cx="1299960" cy="1635840"/>
              <a:chOff x="2968200" y="4119480"/>
              <a:chExt cx="1299960" cy="1635840"/>
            </a:xfrm>
          </p:grpSpPr>
          <p:sp>
            <p:nvSpPr>
              <p:cNvPr id="250" name=""/>
              <p:cNvSpPr/>
              <p:nvPr/>
            </p:nvSpPr>
            <p:spPr>
              <a:xfrm flipH="1">
                <a:off x="3311640" y="4119480"/>
                <a:ext cx="956520" cy="144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1200000">
                <a:off x="2986200" y="5405040"/>
                <a:ext cx="342000" cy="166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1200000">
                <a:off x="3312000" y="5535360"/>
                <a:ext cx="342000" cy="16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4289400" y="4619520"/>
              <a:ext cx="0" cy="41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289400" y="5035680"/>
              <a:ext cx="2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89400" y="5202360"/>
              <a:ext cx="2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562640" y="5035320"/>
              <a:ext cx="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22360" y="5126040"/>
              <a:ext cx="2567160" cy="96840"/>
            </a:xfrm>
            <a:custGeom>
              <a:avLst/>
              <a:gdLst/>
              <a:ahLst/>
              <a:rect l="l" t="t" r="r" b="b"/>
              <a:pathLst>
                <a:path w="1440" h="56">
                  <a:moveTo>
                    <a:pt x="0" y="8"/>
                  </a:moveTo>
                  <a:cubicBezTo>
                    <a:pt x="92" y="32"/>
                    <a:pt x="184" y="56"/>
                    <a:pt x="288" y="56"/>
                  </a:cubicBezTo>
                  <a:cubicBezTo>
                    <a:pt x="392" y="56"/>
                    <a:pt x="512" y="8"/>
                    <a:pt x="624" y="8"/>
                  </a:cubicBezTo>
                  <a:cubicBezTo>
                    <a:pt x="736" y="8"/>
                    <a:pt x="880" y="56"/>
                    <a:pt x="960" y="56"/>
                  </a:cubicBezTo>
                  <a:cubicBezTo>
                    <a:pt x="1040" y="56"/>
                    <a:pt x="1024" y="16"/>
                    <a:pt x="1104" y="8"/>
                  </a:cubicBezTo>
                  <a:cubicBezTo>
                    <a:pt x="1184" y="0"/>
                    <a:pt x="1368" y="8"/>
                    <a:pt x="1440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32480" y="4786200"/>
              <a:ext cx="855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96960" y="40356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96960" y="4452840"/>
              <a:ext cx="42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32480" y="52023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2819520" y="5734080"/>
              <a:ext cx="1026720" cy="582480"/>
              <a:chOff x="2819520" y="5734080"/>
              <a:chExt cx="1026720" cy="582480"/>
            </a:xfrm>
          </p:grpSpPr>
          <p:sp>
            <p:nvSpPr>
              <p:cNvPr id="263" name=""/>
              <p:cNvSpPr/>
              <p:nvPr/>
            </p:nvSpPr>
            <p:spPr>
              <a:xfrm>
                <a:off x="2819520" y="6025320"/>
                <a:ext cx="0" cy="29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846240" y="6025320"/>
                <a:ext cx="0" cy="29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819520" y="5734080"/>
                <a:ext cx="1026720" cy="291240"/>
              </a:xfrm>
              <a:custGeom>
                <a:avLst/>
                <a:gdLst/>
                <a:ahLst/>
                <a:rect l="l" t="t" r="r" b="b"/>
                <a:pathLst>
                  <a:path w="672" h="192">
                    <a:moveTo>
                      <a:pt x="0" y="192"/>
                    </a:moveTo>
                    <a:cubicBezTo>
                      <a:pt x="180" y="96"/>
                      <a:pt x="360" y="0"/>
                      <a:pt x="672" y="19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1798560" y="5626080"/>
              <a:ext cx="517680" cy="304560"/>
              <a:chOff x="1798560" y="5626080"/>
              <a:chExt cx="517680" cy="304560"/>
            </a:xfrm>
          </p:grpSpPr>
          <p:sp>
            <p:nvSpPr>
              <p:cNvPr id="267" name=""/>
              <p:cNvSpPr/>
              <p:nvPr/>
            </p:nvSpPr>
            <p:spPr>
              <a:xfrm>
                <a:off x="2163600" y="580212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8" name=""/>
              <p:cNvGrpSpPr/>
              <p:nvPr/>
            </p:nvGrpSpPr>
            <p:grpSpPr>
              <a:xfrm>
                <a:off x="1798560" y="5626080"/>
                <a:ext cx="426960" cy="304560"/>
                <a:chOff x="1798560" y="5626080"/>
                <a:chExt cx="426960" cy="30456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1807920" y="5626080"/>
                  <a:ext cx="336600" cy="3045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1798560" y="5645160"/>
                  <a:ext cx="4269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2583000" y="6221160"/>
              <a:ext cx="315360" cy="295200"/>
              <a:chOff x="2583000" y="6221160"/>
              <a:chExt cx="315360" cy="295200"/>
            </a:xfrm>
          </p:grpSpPr>
          <p:sp>
            <p:nvSpPr>
              <p:cNvPr id="272" name=""/>
              <p:cNvSpPr/>
              <p:nvPr/>
            </p:nvSpPr>
            <p:spPr>
              <a:xfrm>
                <a:off x="2746080" y="6364080"/>
                <a:ext cx="15228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0800000">
                <a:off x="2745720" y="6221160"/>
                <a:ext cx="15228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670120" y="637056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670120" y="62942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83000" y="6283080"/>
                <a:ext cx="87120" cy="174600"/>
              </a:xfrm>
              <a:custGeom>
                <a:avLst/>
                <a:gdLst/>
                <a:ahLst/>
                <a:rect l="l" t="t" r="r" b="b"/>
                <a:pathLst>
                  <a:path w="55" h="110">
                    <a:moveTo>
                      <a:pt x="55" y="0"/>
                    </a:moveTo>
                    <a:cubicBezTo>
                      <a:pt x="20" y="12"/>
                      <a:pt x="12" y="20"/>
                      <a:pt x="0" y="55"/>
                    </a:cubicBezTo>
                    <a:cubicBezTo>
                      <a:pt x="10" y="96"/>
                      <a:pt x="11" y="110"/>
                      <a:pt x="55" y="11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 flipH="1">
              <a:off x="1968120" y="63644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82880" y="59547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20960" y="6516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49654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69D1-4FD0-4D2E-BCF9-4D480F11FD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ized Non-Isothermal CST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ized model with nonlinear parameter dependence (Marlin, 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– reactor temperature 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erfect T contr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inlet concentration and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are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/R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 values ar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1.0 x 10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in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/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8330.1 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611280" y="4035600"/>
            <a:ext cx="4876560" cy="2633400"/>
            <a:chOff x="611280" y="4035600"/>
            <a:chExt cx="4876560" cy="2633400"/>
          </a:xfrm>
        </p:grpSpPr>
        <p:sp>
          <p:nvSpPr>
            <p:cNvPr id="284" name=""/>
            <p:cNvSpPr/>
            <p:nvPr/>
          </p:nvSpPr>
          <p:spPr>
            <a:xfrm>
              <a:off x="2322360" y="4619520"/>
              <a:ext cx="0" cy="15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89400" y="5202360"/>
              <a:ext cx="0" cy="91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22360" y="6119640"/>
              <a:ext cx="19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1280" y="436896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79760" y="4368960"/>
              <a:ext cx="0" cy="51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2968200" y="4119480"/>
              <a:ext cx="1299960" cy="1635840"/>
              <a:chOff x="2968200" y="4119480"/>
              <a:chExt cx="1299960" cy="1635840"/>
            </a:xfrm>
          </p:grpSpPr>
          <p:sp>
            <p:nvSpPr>
              <p:cNvPr id="290" name=""/>
              <p:cNvSpPr/>
              <p:nvPr/>
            </p:nvSpPr>
            <p:spPr>
              <a:xfrm flipH="1">
                <a:off x="3311640" y="4119480"/>
                <a:ext cx="956520" cy="144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200000">
                <a:off x="2986200" y="5405040"/>
                <a:ext cx="342000" cy="166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200000">
                <a:off x="3312000" y="5535360"/>
                <a:ext cx="342000" cy="16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4289400" y="4619520"/>
              <a:ext cx="0" cy="41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289400" y="5035680"/>
              <a:ext cx="2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89400" y="5202360"/>
              <a:ext cx="2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4562640" y="5035320"/>
              <a:ext cx="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22360" y="5126040"/>
              <a:ext cx="2567160" cy="96840"/>
            </a:xfrm>
            <a:custGeom>
              <a:avLst/>
              <a:gdLst/>
              <a:ahLst/>
              <a:rect l="l" t="t" r="r" b="b"/>
              <a:pathLst>
                <a:path w="1440" h="56">
                  <a:moveTo>
                    <a:pt x="0" y="8"/>
                  </a:moveTo>
                  <a:cubicBezTo>
                    <a:pt x="92" y="32"/>
                    <a:pt x="184" y="56"/>
                    <a:pt x="288" y="56"/>
                  </a:cubicBezTo>
                  <a:cubicBezTo>
                    <a:pt x="392" y="56"/>
                    <a:pt x="512" y="8"/>
                    <a:pt x="624" y="8"/>
                  </a:cubicBezTo>
                  <a:cubicBezTo>
                    <a:pt x="736" y="8"/>
                    <a:pt x="880" y="56"/>
                    <a:pt x="960" y="56"/>
                  </a:cubicBezTo>
                  <a:cubicBezTo>
                    <a:pt x="1040" y="56"/>
                    <a:pt x="1024" y="16"/>
                    <a:pt x="1104" y="8"/>
                  </a:cubicBezTo>
                  <a:cubicBezTo>
                    <a:pt x="1184" y="0"/>
                    <a:pt x="1368" y="8"/>
                    <a:pt x="1440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32480" y="4786200"/>
              <a:ext cx="855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96960" y="40356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6960" y="4452840"/>
              <a:ext cx="42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32480" y="52023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2819520" y="5734080"/>
              <a:ext cx="1026720" cy="582480"/>
              <a:chOff x="2819520" y="5734080"/>
              <a:chExt cx="1026720" cy="582480"/>
            </a:xfrm>
          </p:grpSpPr>
          <p:sp>
            <p:nvSpPr>
              <p:cNvPr id="303" name=""/>
              <p:cNvSpPr/>
              <p:nvPr/>
            </p:nvSpPr>
            <p:spPr>
              <a:xfrm>
                <a:off x="2819520" y="6025320"/>
                <a:ext cx="0" cy="29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846240" y="6025320"/>
                <a:ext cx="0" cy="29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19520" y="5734080"/>
                <a:ext cx="1026720" cy="291240"/>
              </a:xfrm>
              <a:custGeom>
                <a:avLst/>
                <a:gdLst/>
                <a:ahLst/>
                <a:rect l="l" t="t" r="r" b="b"/>
                <a:pathLst>
                  <a:path w="672" h="192">
                    <a:moveTo>
                      <a:pt x="0" y="192"/>
                    </a:moveTo>
                    <a:cubicBezTo>
                      <a:pt x="180" y="96"/>
                      <a:pt x="360" y="0"/>
                      <a:pt x="672" y="19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1798560" y="5626080"/>
              <a:ext cx="517680" cy="304560"/>
              <a:chOff x="1798560" y="5626080"/>
              <a:chExt cx="517680" cy="304560"/>
            </a:xfrm>
          </p:grpSpPr>
          <p:sp>
            <p:nvSpPr>
              <p:cNvPr id="307" name=""/>
              <p:cNvSpPr/>
              <p:nvPr/>
            </p:nvSpPr>
            <p:spPr>
              <a:xfrm>
                <a:off x="2163600" y="580212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1798560" y="5626080"/>
                <a:ext cx="426960" cy="304560"/>
                <a:chOff x="1798560" y="5626080"/>
                <a:chExt cx="426960" cy="3045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1807920" y="5626080"/>
                  <a:ext cx="336600" cy="3045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798560" y="5645160"/>
                  <a:ext cx="4269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1" name=""/>
            <p:cNvGrpSpPr/>
            <p:nvPr/>
          </p:nvGrpSpPr>
          <p:grpSpPr>
            <a:xfrm>
              <a:off x="2583000" y="6221160"/>
              <a:ext cx="315360" cy="295200"/>
              <a:chOff x="2583000" y="6221160"/>
              <a:chExt cx="315360" cy="295200"/>
            </a:xfrm>
          </p:grpSpPr>
          <p:sp>
            <p:nvSpPr>
              <p:cNvPr id="312" name=""/>
              <p:cNvSpPr/>
              <p:nvPr/>
            </p:nvSpPr>
            <p:spPr>
              <a:xfrm>
                <a:off x="2746080" y="6364080"/>
                <a:ext cx="15228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0800000">
                <a:off x="2745720" y="6221160"/>
                <a:ext cx="15228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670120" y="637056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670120" y="62942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583000" y="6283080"/>
                <a:ext cx="87120" cy="174600"/>
              </a:xfrm>
              <a:custGeom>
                <a:avLst/>
                <a:gdLst/>
                <a:ahLst/>
                <a:rect l="l" t="t" r="r" b="b"/>
                <a:pathLst>
                  <a:path w="55" h="110">
                    <a:moveTo>
                      <a:pt x="55" y="0"/>
                    </a:moveTo>
                    <a:cubicBezTo>
                      <a:pt x="20" y="12"/>
                      <a:pt x="12" y="20"/>
                      <a:pt x="0" y="55"/>
                    </a:cubicBezTo>
                    <a:cubicBezTo>
                      <a:pt x="10" y="96"/>
                      <a:pt x="11" y="110"/>
                      <a:pt x="55" y="11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 flipH="1">
              <a:off x="1968120" y="63644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1982880" y="59547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20960" y="6516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0" name=""/>
          <p:cNvGraphicFramePr/>
          <p:nvPr/>
        </p:nvGraphicFramePr>
        <p:xfrm>
          <a:off x="6012000" y="4640400"/>
          <a:ext cx="2743200" cy="11239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</a:tblGrid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min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/R/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K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.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8.5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0.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8.3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3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6145200" y="420516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First PDA Attem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12000" y="6014880"/>
            <a:ext cx="28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Not so goo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49654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8469-F09E-4F76-9102-6282EDDEE66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wro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spline fit to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ic B-spline requires first and second-order derivatives to match at intersection of adjacent inter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’t match sharp corner – problem for all first-order models with step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484360" y="1461960"/>
            <a:ext cx="4857840" cy="3406680"/>
            <a:chOff x="2484360" y="1461960"/>
            <a:chExt cx="4857840" cy="3406680"/>
          </a:xfrm>
        </p:grpSpPr>
        <p:pic>
          <p:nvPicPr>
            <p:cNvPr id="327" name="" descr=""/>
            <p:cNvPicPr/>
            <p:nvPr/>
          </p:nvPicPr>
          <p:blipFill>
            <a:blip r:embed="rId1"/>
            <a:stretch/>
          </p:blipFill>
          <p:spPr>
            <a:xfrm>
              <a:off x="2484360" y="1461960"/>
              <a:ext cx="4857840" cy="34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3203640" y="2525760"/>
              <a:ext cx="3076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Sharp corners cannot be 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captured by sp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4300560" y="3044520"/>
              <a:ext cx="996840" cy="1391040"/>
              <a:chOff x="4300560" y="3044520"/>
              <a:chExt cx="996840" cy="1391040"/>
            </a:xfrm>
          </p:grpSpPr>
          <p:sp>
            <p:nvSpPr>
              <p:cNvPr id="330" name=""/>
              <p:cNvSpPr/>
              <p:nvPr/>
            </p:nvSpPr>
            <p:spPr>
              <a:xfrm>
                <a:off x="4300560" y="3530520"/>
                <a:ext cx="996840" cy="90504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 flipV="1">
                <a:off x="4466880" y="3044520"/>
                <a:ext cx="181080" cy="41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EB55-9DCA-49D6-ABD0-02B71B740E1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ing the spline fit: knot 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bic B-splines require continuou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ivatives at knots, giving poor fits near sharp corn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knots at or near sharp corners (3 for cubic B-splines) alleviate this problem and give better spline fi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50920" y="3048120"/>
            <a:ext cx="4876560" cy="3549600"/>
            <a:chOff x="250920" y="3048120"/>
            <a:chExt cx="4876560" cy="3549600"/>
          </a:xfrm>
        </p:grpSpPr>
        <p:pic>
          <p:nvPicPr>
            <p:cNvPr id="335" name="" descr=""/>
            <p:cNvPicPr/>
            <p:nvPr/>
          </p:nvPicPr>
          <p:blipFill>
            <a:blip r:embed="rId1"/>
            <a:stretch/>
          </p:blipFill>
          <p:spPr>
            <a:xfrm>
              <a:off x="250920" y="3048120"/>
              <a:ext cx="4876560" cy="35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2079720" y="3630600"/>
              <a:ext cx="914400" cy="21463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51120" y="5308560"/>
              <a:ext cx="38088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60400" y="477540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ut more knots here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5223960" y="3273480"/>
            <a:ext cx="383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Examined effect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incident knots at sharp cor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ly spaced (not coinciden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knots near sharp cor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spline fits on paramet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estimates in ODE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BE65-60C7-445E-A7F2-F3AA27F1F3C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of PDA with Coincident Kn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s – step down in T; 30 runs simu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case:  cubic B-splines with uniform knot spacing at 0.1 min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ne smoothing was much improved using coincident kn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 estimates and model predictions were as good as those obtained using conventional nonlinear least squ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A with coincident knots required less run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ng coincident knots was significantly more effective than adding closely-spaced kn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295280" y="2492280"/>
          <a:ext cx="6324840" cy="1905120"/>
        </p:xfrm>
        <a:graphic>
          <a:graphicData uri="http://schemas.openxmlformats.org/drawingml/2006/table">
            <a:tbl>
              <a:tblPr/>
              <a:tblGrid>
                <a:gridCol w="2610000"/>
                <a:gridCol w="1238400"/>
                <a:gridCol w="1238040"/>
                <a:gridCol w="1238400"/>
              </a:tblGrid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min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/R/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K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un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e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iginal P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.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8.5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A w/ coincident kn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.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8.3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A w/ close kn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4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ditional N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.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8.3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ue Parameter Val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3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3527-EFC7-4EE0-B7AA-9556BDF320E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ing and P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moothing step is critical to the success of the parameter estimates in P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tional spline-fitting approach is to penalize higher-order derivatives of the smoothed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es poor results for responses with sharp corners or oscil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improve the smoothing step by incorporating underlying ODE model structure into the spline fi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DE model with parameter guesses to define roughness penalty for spline smoo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teratively re-weighted P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274840" y="3276720"/>
                <a:ext cx="438012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+</m:t>
                    </m:r>
                    <m:r>
                      <m:t xml:space="preserve">λ</m:t>
                    </m:r>
                    <m:nary>
                      <m:naryPr>
                        <m:chr m:val="∫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~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1790-D087-475A-AC51-070252D13FF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tively re-weighted PDA (iP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le-based PDA objective function for fitting sp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ff"/>
                </a:solidFill>
                <a:latin typeface="Arial"/>
              </a:rPr>
              <a:t>Find spline coefficients that minim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457200" y="3141720"/>
            <a:ext cx="8381880" cy="2619360"/>
            <a:chOff x="457200" y="3141720"/>
            <a:chExt cx="8381880" cy="2619360"/>
          </a:xfrm>
        </p:grpSpPr>
        <mc:AlternateContent>
          <mc:Choice xmlns:a14="http://schemas.microsoft.com/office/drawing/2010/main" Requires="a14">
            <p:sp>
              <p:nvSpPr>
                <p:cNvPr id="349" name=""/>
                <p:cNvSpPr txBox="1"/>
                <p:nvPr/>
              </p:nvSpPr>
              <p:spPr>
                <a:xfrm>
                  <a:off x="4411800" y="3551400"/>
                  <a:ext cx="31248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1106640" y="3259440"/>
                  <a:ext cx="2441520" cy="94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</m:sub>
                        <m:sup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y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~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51" name=""/>
            <p:cNvSpPr/>
            <p:nvPr/>
          </p:nvSpPr>
          <p:spPr>
            <a:xfrm>
              <a:off x="1128600" y="420552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duals between spline fit and data poi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685800" y="4923000"/>
              <a:ext cx="1825560" cy="541440"/>
              <a:chOff x="685800" y="4923000"/>
              <a:chExt cx="1825560" cy="541440"/>
            </a:xfrm>
          </p:grpSpPr>
          <p:sp>
            <p:nvSpPr>
              <p:cNvPr id="353" name=""/>
              <p:cNvSpPr/>
              <p:nvPr/>
            </p:nvSpPr>
            <p:spPr>
              <a:xfrm>
                <a:off x="720720" y="5151600"/>
                <a:ext cx="108000" cy="114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044720" y="4923000"/>
                <a:ext cx="107640" cy="114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368360" y="5037480"/>
                <a:ext cx="108000" cy="1141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693800" y="5266080"/>
                <a:ext cx="108000" cy="1141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017800" y="5037480"/>
                <a:ext cx="108000" cy="1141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341440" y="5173920"/>
                <a:ext cx="108000" cy="114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85800" y="5189760"/>
                <a:ext cx="1817640" cy="74520"/>
              </a:xfrm>
              <a:custGeom>
                <a:avLst/>
                <a:gdLst/>
                <a:ahLst/>
                <a:rect l="l" t="t" r="r" b="b"/>
                <a:pathLst>
                  <a:path w="1392" h="576">
                    <a:moveTo>
                      <a:pt x="0" y="576"/>
                    </a:moveTo>
                    <a:cubicBezTo>
                      <a:pt x="96" y="304"/>
                      <a:pt x="192" y="32"/>
                      <a:pt x="1392" y="0"/>
                    </a:cubicBez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70040" y="4984920"/>
                <a:ext cx="1741320" cy="479520"/>
              </a:xfrm>
              <a:custGeom>
                <a:avLst/>
                <a:gdLst/>
                <a:ahLst/>
                <a:rect l="l" t="t" r="r" b="b"/>
                <a:pathLst>
                  <a:path w="1097" h="302">
                    <a:moveTo>
                      <a:pt x="0" y="210"/>
                    </a:moveTo>
                    <a:cubicBezTo>
                      <a:pt x="11" y="193"/>
                      <a:pt x="14" y="171"/>
                      <a:pt x="27" y="155"/>
                    </a:cubicBezTo>
                    <a:cubicBezTo>
                      <a:pt x="39" y="140"/>
                      <a:pt x="59" y="133"/>
                      <a:pt x="73" y="119"/>
                    </a:cubicBezTo>
                    <a:cubicBezTo>
                      <a:pt x="99" y="93"/>
                      <a:pt x="117" y="60"/>
                      <a:pt x="146" y="36"/>
                    </a:cubicBezTo>
                    <a:cubicBezTo>
                      <a:pt x="154" y="29"/>
                      <a:pt x="163" y="22"/>
                      <a:pt x="173" y="18"/>
                    </a:cubicBezTo>
                    <a:cubicBezTo>
                      <a:pt x="191" y="10"/>
                      <a:pt x="228" y="0"/>
                      <a:pt x="228" y="0"/>
                    </a:cubicBezTo>
                    <a:cubicBezTo>
                      <a:pt x="256" y="2"/>
                      <a:pt x="320" y="0"/>
                      <a:pt x="356" y="18"/>
                    </a:cubicBezTo>
                    <a:cubicBezTo>
                      <a:pt x="391" y="35"/>
                      <a:pt x="395" y="57"/>
                      <a:pt x="420" y="82"/>
                    </a:cubicBezTo>
                    <a:cubicBezTo>
                      <a:pt x="428" y="90"/>
                      <a:pt x="440" y="93"/>
                      <a:pt x="448" y="100"/>
                    </a:cubicBezTo>
                    <a:cubicBezTo>
                      <a:pt x="492" y="139"/>
                      <a:pt x="528" y="197"/>
                      <a:pt x="576" y="228"/>
                    </a:cubicBezTo>
                    <a:cubicBezTo>
                      <a:pt x="579" y="237"/>
                      <a:pt x="579" y="248"/>
                      <a:pt x="585" y="256"/>
                    </a:cubicBezTo>
                    <a:cubicBezTo>
                      <a:pt x="598" y="273"/>
                      <a:pt x="630" y="302"/>
                      <a:pt x="630" y="302"/>
                    </a:cubicBezTo>
                    <a:cubicBezTo>
                      <a:pt x="658" y="299"/>
                      <a:pt x="686" y="299"/>
                      <a:pt x="713" y="292"/>
                    </a:cubicBezTo>
                    <a:cubicBezTo>
                      <a:pt x="755" y="281"/>
                      <a:pt x="748" y="229"/>
                      <a:pt x="777" y="201"/>
                    </a:cubicBezTo>
                    <a:cubicBezTo>
                      <a:pt x="803" y="122"/>
                      <a:pt x="851" y="66"/>
                      <a:pt x="932" y="46"/>
                    </a:cubicBezTo>
                    <a:cubicBezTo>
                      <a:pt x="991" y="85"/>
                      <a:pt x="1000" y="101"/>
                      <a:pt x="1042" y="155"/>
                    </a:cubicBezTo>
                    <a:cubicBezTo>
                      <a:pt x="1059" y="177"/>
                      <a:pt x="1069" y="201"/>
                      <a:pt x="1097" y="20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457200" y="3141720"/>
              <a:ext cx="3657600" cy="2619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514600" y="493092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Ensure spline matches 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891480" y="4865760"/>
              <a:ext cx="1752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Shrink” spline fit to agree with mechanistic mod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5243400" y="4923000"/>
              <a:ext cx="1817640" cy="457200"/>
              <a:chOff x="5243400" y="4923000"/>
              <a:chExt cx="1817640" cy="457200"/>
            </a:xfrm>
          </p:grpSpPr>
          <p:sp>
            <p:nvSpPr>
              <p:cNvPr id="365" name=""/>
              <p:cNvSpPr/>
              <p:nvPr/>
            </p:nvSpPr>
            <p:spPr>
              <a:xfrm>
                <a:off x="5278320" y="5151600"/>
                <a:ext cx="108000" cy="1141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601960" y="4923000"/>
                <a:ext cx="108000" cy="1141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25960" y="5037120"/>
                <a:ext cx="108000" cy="114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51400" y="5265720"/>
                <a:ext cx="108000" cy="114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575040" y="5037120"/>
                <a:ext cx="108000" cy="114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899040" y="5173920"/>
                <a:ext cx="108000" cy="1141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243400" y="5189760"/>
                <a:ext cx="1817640" cy="74520"/>
              </a:xfrm>
              <a:custGeom>
                <a:avLst/>
                <a:gdLst/>
                <a:ahLst/>
                <a:rect l="l" t="t" r="r" b="b"/>
                <a:pathLst>
                  <a:path w="1392" h="576">
                    <a:moveTo>
                      <a:pt x="0" y="576"/>
                    </a:moveTo>
                    <a:cubicBezTo>
                      <a:pt x="96" y="304"/>
                      <a:pt x="192" y="32"/>
                      <a:pt x="1392" y="0"/>
                    </a:cubicBez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305320" y="5158080"/>
                <a:ext cx="1755720" cy="115560"/>
              </a:xfrm>
              <a:custGeom>
                <a:avLst/>
                <a:gdLst/>
                <a:ahLst/>
                <a:rect l="l" t="t" r="r" b="b"/>
                <a:pathLst>
                  <a:path w="1106" h="73">
                    <a:moveTo>
                      <a:pt x="0" y="73"/>
                    </a:moveTo>
                    <a:cubicBezTo>
                      <a:pt x="54" y="55"/>
                      <a:pt x="109" y="33"/>
                      <a:pt x="164" y="18"/>
                    </a:cubicBezTo>
                    <a:cubicBezTo>
                      <a:pt x="188" y="11"/>
                      <a:pt x="238" y="0"/>
                      <a:pt x="238" y="0"/>
                    </a:cubicBezTo>
                    <a:cubicBezTo>
                      <a:pt x="301" y="9"/>
                      <a:pt x="350" y="26"/>
                      <a:pt x="411" y="46"/>
                    </a:cubicBezTo>
                    <a:cubicBezTo>
                      <a:pt x="429" y="52"/>
                      <a:pt x="466" y="64"/>
                      <a:pt x="466" y="64"/>
                    </a:cubicBezTo>
                    <a:cubicBezTo>
                      <a:pt x="527" y="61"/>
                      <a:pt x="588" y="62"/>
                      <a:pt x="649" y="55"/>
                    </a:cubicBezTo>
                    <a:cubicBezTo>
                      <a:pt x="649" y="55"/>
                      <a:pt x="717" y="33"/>
                      <a:pt x="731" y="28"/>
                    </a:cubicBezTo>
                    <a:cubicBezTo>
                      <a:pt x="749" y="22"/>
                      <a:pt x="786" y="9"/>
                      <a:pt x="786" y="9"/>
                    </a:cubicBezTo>
                    <a:cubicBezTo>
                      <a:pt x="859" y="12"/>
                      <a:pt x="933" y="11"/>
                      <a:pt x="1006" y="18"/>
                    </a:cubicBezTo>
                    <a:cubicBezTo>
                      <a:pt x="1043" y="22"/>
                      <a:pt x="1069" y="46"/>
                      <a:pt x="1106" y="4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6006960" y="3141720"/>
                  <a:ext cx="1684440" cy="111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nary>
                        <m:naryPr>
                          <m:chr m:val="∫"/>
                        </m:naryPr>
                        <m:sub/>
                        <m:sup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ε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  <m:r>
                        <m:rPr>
                          <m:lit/>
                          <m:nor/>
                        </m:rPr>
                        <m:t xml:space="preserve">d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4" name=""/>
            <p:cNvSpPr/>
            <p:nvPr/>
          </p:nvSpPr>
          <p:spPr>
            <a:xfrm>
              <a:off x="5029200" y="3141720"/>
              <a:ext cx="3809880" cy="2619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241880" y="437076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6" name=""/>
                <p:cNvSpPr txBox="1"/>
                <p:nvPr/>
              </p:nvSpPr>
              <p:spPr>
                <a:xfrm>
                  <a:off x="5689440" y="4208760"/>
                  <a:ext cx="305460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ε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~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−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α</m:t>
                          </m:r>
                        </m:e>
                      </m:acc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~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β</m:t>
                          </m:r>
                        </m:e>
                      </m:acc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~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11E4-6783-44D2-A28F-4711520C4F1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Data Analysis (F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DA is an evolving statistical framework in which responses are profiles, not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FDA has potential for making it easier to estimate dynamic and steady-state models for chemical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98E9-4EC9-41DB-B642-42E876149E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le-Based PDA – Use the ODE to Help Spline 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50280" indent="-350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ntional PDA is a 2-step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200" indent="-315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t splines to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6200" indent="-315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imate ODE model parameters using fitted sp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ratively re-weighted PDA (iPDA) </a:t>
            </a:r>
            <a:r>
              <a:rPr b="0" lang="en-US" sz="1800" spc="-1" strike="noStrike">
                <a:solidFill>
                  <a:srgbClr val="6666ff"/>
                </a:solidFill>
                <a:latin typeface="Arial"/>
              </a:rPr>
              <a:t>itera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tween smoothing and parameter estimation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200" indent="-315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t splines using ODE model (with current parameter estimates) to define a roughness penal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21760" indent="-280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sures spline fits are smooth and physically reason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6200" indent="-315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 model parameters using fitted sp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21760" indent="-280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just ODE parameters to improve ODE model fit to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6200" indent="-315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rate between steps 1 and 2 until converg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6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solve the combined parameter estimation/spline smoothing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200" indent="-315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the current approach we are using - formulate as an approximate maximum likelihood estimation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6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0159-77C9-489A-AC6E-C22B7867B46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A Summ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Data Analysis treats data as curves rather than poi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Differential Analysis can fit parameters in models without numerical solution of the ODE; effort is in fitting splines to the dat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ized CSTR model with 2 non-linear paramet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DA uses ODE as spline-fitting penal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applied to MIMO ODE models with many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nonlinear CSTR model with 2 ODEs and 4 nonline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s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imating parameters when some states are unmeas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imating parameters when there are stochastic disturbances pres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dence interval expressions for parameter estim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ximate maximum likelihood for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D075-0B73-457E-9C6B-18DB5C4DA96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tories about Functional Data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y #1 –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ng parameters in differential equation models us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Principal Differential Analysis (PD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ory #2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aining reactor settings for desired molecular weight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s using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unctional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A72D-300B-4BB9-9A63-2899FE110D2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636120" y="1483920"/>
            <a:ext cx="765180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olymer molecular weight distributions (MWDs) are important because they influence end-use and processing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spcBef>
                <a:spcPts val="201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WDs are functional observations, in which weight fraction is a function of molecular weight  (or log(MW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spcBef>
                <a:spcPts val="201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onventional approaches for modeling and predicting MWDs inclu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89080" indent="-45720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characterization using mo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89080" indent="-45720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etailed mechanistic models to predict fractions for each chain leng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89080" indent="-45720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iscretization and treatment as multi-response estimation probl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89080" indent="0" algn="just">
              <a:spcBef>
                <a:spcPts val="201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ss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89080" indent="-45720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loss of information vs. complex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89080" indent="-45720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problem conditi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89080" indent="0" algn="just">
              <a:spcBef>
                <a:spcPts val="201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lternative is to treat the MWDs as curves, and use techniques from Functional Data Analysis (F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spcBef>
                <a:spcPts val="451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ing reactor settings for desired MWDs us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Re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C47B-CFD3-4CB1-849A-35B4781FA46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Regres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dels in which in which factors or responses are func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xample – functional response 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y(r)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pends on non-functional factors </a:t>
            </a:r>
            <a:r>
              <a:rPr b="0" i="1" lang="en-CA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CA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CA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CA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n the MWD modeling example, the response is functional and the factors are non-functional, so parameters in the model are functions of the independent variable </a:t>
            </a:r>
            <a:r>
              <a:rPr b="0" i="1" lang="en-CA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which is log(M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763640" y="3000240"/>
            <a:ext cx="4226040" cy="500040"/>
            <a:chOff x="1763640" y="3000240"/>
            <a:chExt cx="4226040" cy="500040"/>
          </a:xfrm>
        </p:grpSpPr>
        <mc:AlternateContent>
          <mc:Choice xmlns:a14="http://schemas.microsoft.com/office/drawing/2010/main" Requires="a14">
            <p:sp>
              <p:nvSpPr>
                <p:cNvPr id="388" name=""/>
                <p:cNvSpPr txBox="1"/>
                <p:nvPr/>
              </p:nvSpPr>
              <p:spPr>
                <a:xfrm>
                  <a:off x="1763640" y="3000240"/>
                  <a:ext cx="4226040" cy="42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9" name=""/>
            <p:cNvSpPr/>
            <p:nvPr/>
          </p:nvSpPr>
          <p:spPr>
            <a:xfrm>
              <a:off x="2627280" y="3500280"/>
              <a:ext cx="50472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64000" y="3500280"/>
              <a:ext cx="50472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43280" y="3500280"/>
              <a:ext cx="50508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80C1-A423-4B48-AE97-6FADE90FC4E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Regres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east squares estimation criterion – minimize integral squared error between predicted and observed response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olution – can be determined by expressing parameter functions  using basis fun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042920" y="2421000"/>
                <a:ext cx="626436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lim>
                    </m:limLow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  <m:r>
                                  <m:t xml:space="preserve">(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EFBB-6482-4300-9B74-C0D434864B8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Regression for MWD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stimate an empirical model to predict the effect of isothermal reactor temperature (T) and initial initiator concentration [I]</a:t>
            </a:r>
            <a:r>
              <a:rPr b="0" lang="en-CA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on the resulting MWD for bulk polymerization of styrene in a batch re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sponse (differential weight fraction, 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) is functional, while factors T and [I]</a:t>
            </a:r>
            <a:r>
              <a:rPr b="0" lang="en-CA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are non-func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ynthetic data generated for a 2</a:t>
            </a:r>
            <a:r>
              <a:rPr b="0" lang="en-CA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factorial design in T and [I]</a:t>
            </a:r>
            <a:r>
              <a:rPr b="0" lang="en-CA" sz="20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using a fundamental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265400" y="4419720"/>
            <a:ext cx="2021040" cy="1891080"/>
            <a:chOff x="1265400" y="4419720"/>
            <a:chExt cx="2021040" cy="1891080"/>
          </a:xfrm>
        </p:grpSpPr>
        <p:sp>
          <p:nvSpPr>
            <p:cNvPr id="398" name=""/>
            <p:cNvSpPr/>
            <p:nvPr/>
          </p:nvSpPr>
          <p:spPr>
            <a:xfrm>
              <a:off x="1835280" y="4635360"/>
              <a:ext cx="129528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03600" y="4594320"/>
              <a:ext cx="71280" cy="7236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090960" y="4603680"/>
              <a:ext cx="71280" cy="7272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100320" y="5740200"/>
              <a:ext cx="71640" cy="7272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792440" y="5749920"/>
              <a:ext cx="71280" cy="7272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355840" y="5852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65400" y="4922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I]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600560" y="600228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006720" y="60037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404720" y="44197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332000" y="557208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4427640" y="4005360"/>
            <a:ext cx="3600360" cy="25779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3637080" y="499572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FD5B-92AD-44B6-9210-455EF25656B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Regression for MWD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tep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Smooth the raw MWD data using spline basis fun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ransform MWD responses to ensure model can’t give negative predictions, ensure monotonic behaviour of integral - density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Fit main-effects-plus-two-factor-interaction model using transformed respon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Obtain parameter estimate curves that are functions of log(M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ransform back to original coordinates  </a:t>
            </a:r>
            <a:br>
              <a:rPr sz="1600"/>
            </a:b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(differential weight fraction vs. log(MW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Use model to determine T and [I]</a:t>
            </a:r>
            <a:r>
              <a:rPr b="0" lang="en-CA" sz="16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o produce MWD near target cur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5594-9ABA-4B91-BDCD-2B792FC1FF2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imulated MWDs are available for 4 combinations of T and [I]</a:t>
            </a:r>
            <a:r>
              <a:rPr b="0" lang="en-CA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plines gave good fits to the original data plots using 14 basis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CA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order B-splines were used with knots at non-uniform interv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330720" y="3519360"/>
            <a:ext cx="2474640" cy="17719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6014880" y="3527280"/>
            <a:ext cx="2479680" cy="17766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662040" y="3503520"/>
            <a:ext cx="2475000" cy="17719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076040" y="5397480"/>
            <a:ext cx="16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data y(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422880" y="5397480"/>
            <a:ext cx="232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ed respon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n(y(r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958000" y="5373720"/>
            <a:ext cx="2439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ed respon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(ln(y))/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d from spline 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2BD1-526C-49FA-A730-B50F9F0D3D6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2627280" y="1465200"/>
            <a:ext cx="6983280" cy="524340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1284120" y="1596960"/>
                <a:ext cx="688824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I</m:t>
                    </m:r>
                    <m:sSub>
                      <m:e>
                        <m:r>
                          <m:t xml:space="preserve">]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I</m:t>
                    </m:r>
                    <m:sSub>
                      <m:e>
                        <m:r>
                          <m:t xml:space="preserve">]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5" name=""/>
          <p:cNvSpPr/>
          <p:nvPr/>
        </p:nvSpPr>
        <p:spPr>
          <a:xfrm>
            <a:off x="2627280" y="5870520"/>
            <a:ext cx="383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)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--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---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)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--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) 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56160" y="4076640"/>
            <a:ext cx="107928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03800" y="2349360"/>
            <a:ext cx="3529080" cy="34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863800" y="3429000"/>
            <a:ext cx="432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935440" y="3573360"/>
            <a:ext cx="43164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995640" y="2492280"/>
            <a:ext cx="12970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C0C7-1262-47B6-8098-4A65E45022E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Data Analysis (F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DA is an evolving statistical framework in which responses are profiles, not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DA has potential for making it easier to estimate dynamic and steady-state models for (chemical)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Potential of FDA needs to be assessed. Could FDA help solve your model estimation problems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6261-8CA2-4607-8F04-F42467ADA2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Pre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gression model fits simulated data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1332000" y="1828800"/>
            <a:ext cx="9361080" cy="4920840"/>
            <a:chOff x="1332000" y="1828800"/>
            <a:chExt cx="9361080" cy="4920840"/>
          </a:xfrm>
        </p:grpSpPr>
        <p:sp>
          <p:nvSpPr>
            <p:cNvPr id="434" name=""/>
            <p:cNvSpPr/>
            <p:nvPr/>
          </p:nvSpPr>
          <p:spPr>
            <a:xfrm>
              <a:off x="1332000" y="5700960"/>
              <a:ext cx="5164920" cy="10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Observed (blue) and predicted (red) MW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for 2</a:t>
              </a:r>
              <a:r>
                <a:rPr b="0" lang="es-ES" sz="16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 factorial desig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Main-effects-plus-two-factor-interaction mod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5" name="" descr=""/>
            <p:cNvPicPr/>
            <p:nvPr/>
          </p:nvPicPr>
          <p:blipFill>
            <a:blip r:embed="rId1"/>
            <a:stretch/>
          </p:blipFill>
          <p:spPr>
            <a:xfrm>
              <a:off x="1414080" y="1828800"/>
              <a:ext cx="4583160" cy="372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2"/>
            <a:stretch/>
          </p:blipFill>
          <p:spPr>
            <a:xfrm>
              <a:off x="6109920" y="1915920"/>
              <a:ext cx="4583160" cy="372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7" name=""/>
          <p:cNvSpPr/>
          <p:nvPr/>
        </p:nvSpPr>
        <p:spPr>
          <a:xfrm>
            <a:off x="6227640" y="1773360"/>
            <a:ext cx="431964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21AD-B7F0-4001-99F2-E82CAF30362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model to guide further experi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ed two target distributions, and used model to determine optimal operating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ucted as a “blind test” – given target distributions without knowledge of actual operating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operating conditions were correctly identified to within 7% of the true value in both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3635280" y="3429000"/>
            <a:ext cx="4076640" cy="306216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329400" y="4137120"/>
            <a:ext cx="3336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conditions compu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minimize difference betwe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and predicted MWD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olved using Nelder-Mea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x algorith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DADB-259E-459D-91F3-74C6BC12A77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uence of Temperature on MW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ing T reduces average molecular 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ing T increases the breadth of the MW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uence of Initiator on MW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ing [I]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duces average molecular we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ing [I]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produce a shoulder on the MWD – asymmetric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was useful for selecting operating conditions to produce desired MW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AD6E-4D4A-406B-AAA2-E59EA6FA97C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tories about Functional Data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y #1 –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ng parameters in differential equation models us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Principal Differential Analysis (PD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y #2 – Obtaining reactor settings for desired molecular weight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s using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unctional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27BC-3162-4F71-8FDD-7EF42B81C65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Data Analysis (F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FDA is an evolving statistical framework in which responses are profiles, not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FDA has potential for making it easier to estimate dynamic and steady-state models for chemical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FDA is useful for both fundamental and empirical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Potential of FDA needs to be assessed. Could FDA help solve your model estimation problems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Better understanding is required before FDA will be widely adopted by the chemometrics and chemical engineering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C83D-65D1-4A65-AC8B-21569B4DC3E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ement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Research collabo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m Ramsay, Psychology Dept.,  McG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stimating differential equation models using principal differential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m McAuley, Queen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y Poyton – MSc student, Queen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eed Varziri – PhD student, Queen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unctional regression for modeling MW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n Hutchinson – Queen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a Sulieman – American University of Sharjah, United Arab Emi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135E-0E9C-4F6F-899C-C2ED59BB18E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ement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Financia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 Sciences and Engineering Research Council of 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A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en’s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724E-687C-439F-91EB-D955B9B3748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65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2 Stor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imating differential equation models using principal differential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taining reactor settings for desired molecular weight distributions using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al reg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1201-DCED-4EC7-AF81-E0FC576B59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modeling and controlling chemical processes, we frequently encounter responses that are functional – functions of an independent variable such as time or molecular 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traces (time series) – most frequently encounter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rocess monitoring and contr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es distributions – e.g., polymer molecular weigh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s, particle size dis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object is a function of one or more independent vari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w do we work with these respon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236000" y="2637000"/>
            <a:ext cx="1439640" cy="1079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236000" y="3933720"/>
            <a:ext cx="1512720" cy="113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F602-F845-418D-A408-EC3BB9955B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ys of viewing functio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82640" y="2614680"/>
            <a:ext cx="2276640" cy="814320"/>
            <a:chOff x="782640" y="2614680"/>
            <a:chExt cx="2276640" cy="814320"/>
          </a:xfrm>
        </p:grpSpPr>
        <p:sp>
          <p:nvSpPr>
            <p:cNvPr id="60" name=""/>
            <p:cNvSpPr/>
            <p:nvPr/>
          </p:nvSpPr>
          <p:spPr>
            <a:xfrm>
              <a:off x="925560" y="2781360"/>
              <a:ext cx="0" cy="64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82640" y="3286080"/>
              <a:ext cx="22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27000" y="2643120"/>
              <a:ext cx="2065320" cy="384120"/>
            </a:xfrm>
            <a:custGeom>
              <a:avLst/>
              <a:gdLst/>
              <a:ahLst/>
              <a:rect l="l" t="t" r="r" b="b"/>
              <a:pathLst>
                <a:path w="1301" h="242">
                  <a:moveTo>
                    <a:pt x="0" y="200"/>
                  </a:moveTo>
                  <a:cubicBezTo>
                    <a:pt x="16" y="170"/>
                    <a:pt x="17" y="137"/>
                    <a:pt x="42" y="112"/>
                  </a:cubicBezTo>
                  <a:cubicBezTo>
                    <a:pt x="59" y="76"/>
                    <a:pt x="40" y="106"/>
                    <a:pt x="70" y="84"/>
                  </a:cubicBezTo>
                  <a:cubicBezTo>
                    <a:pt x="129" y="41"/>
                    <a:pt x="162" y="13"/>
                    <a:pt x="237" y="0"/>
                  </a:cubicBezTo>
                  <a:cubicBezTo>
                    <a:pt x="293" y="9"/>
                    <a:pt x="281" y="30"/>
                    <a:pt x="307" y="70"/>
                  </a:cubicBezTo>
                  <a:cubicBezTo>
                    <a:pt x="323" y="95"/>
                    <a:pt x="392" y="165"/>
                    <a:pt x="418" y="181"/>
                  </a:cubicBezTo>
                  <a:cubicBezTo>
                    <a:pt x="428" y="194"/>
                    <a:pt x="445" y="215"/>
                    <a:pt x="460" y="223"/>
                  </a:cubicBezTo>
                  <a:cubicBezTo>
                    <a:pt x="475" y="231"/>
                    <a:pt x="507" y="242"/>
                    <a:pt x="507" y="242"/>
                  </a:cubicBezTo>
                  <a:cubicBezTo>
                    <a:pt x="567" y="236"/>
                    <a:pt x="621" y="224"/>
                    <a:pt x="683" y="218"/>
                  </a:cubicBezTo>
                  <a:cubicBezTo>
                    <a:pt x="703" y="198"/>
                    <a:pt x="723" y="189"/>
                    <a:pt x="748" y="177"/>
                  </a:cubicBezTo>
                  <a:cubicBezTo>
                    <a:pt x="766" y="149"/>
                    <a:pt x="778" y="159"/>
                    <a:pt x="813" y="163"/>
                  </a:cubicBezTo>
                  <a:cubicBezTo>
                    <a:pt x="865" y="178"/>
                    <a:pt x="934" y="135"/>
                    <a:pt x="985" y="126"/>
                  </a:cubicBezTo>
                  <a:cubicBezTo>
                    <a:pt x="1002" y="114"/>
                    <a:pt x="1013" y="102"/>
                    <a:pt x="1032" y="93"/>
                  </a:cubicBezTo>
                  <a:cubicBezTo>
                    <a:pt x="1080" y="41"/>
                    <a:pt x="1169" y="43"/>
                    <a:pt x="1236" y="33"/>
                  </a:cubicBezTo>
                  <a:cubicBezTo>
                    <a:pt x="1248" y="36"/>
                    <a:pt x="1261" y="39"/>
                    <a:pt x="1273" y="42"/>
                  </a:cubicBezTo>
                  <a:cubicBezTo>
                    <a:pt x="1282" y="44"/>
                    <a:pt x="1301" y="47"/>
                    <a:pt x="1301" y="47"/>
                  </a:cubicBezTo>
                </a:path>
              </a:pathLst>
            </a:custGeom>
            <a:noFill/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20880" y="2614680"/>
              <a:ext cx="2138400" cy="471240"/>
            </a:xfrm>
            <a:custGeom>
              <a:avLst/>
              <a:gdLst/>
              <a:ahLst/>
              <a:rect l="l" t="t" r="r" b="b"/>
              <a:pathLst>
                <a:path w="1347" h="297">
                  <a:moveTo>
                    <a:pt x="0" y="153"/>
                  </a:moveTo>
                  <a:cubicBezTo>
                    <a:pt x="20" y="173"/>
                    <a:pt x="46" y="205"/>
                    <a:pt x="74" y="213"/>
                  </a:cubicBezTo>
                  <a:cubicBezTo>
                    <a:pt x="83" y="222"/>
                    <a:pt x="98" y="227"/>
                    <a:pt x="107" y="236"/>
                  </a:cubicBezTo>
                  <a:cubicBezTo>
                    <a:pt x="122" y="251"/>
                    <a:pt x="128" y="268"/>
                    <a:pt x="144" y="283"/>
                  </a:cubicBezTo>
                  <a:cubicBezTo>
                    <a:pt x="168" y="274"/>
                    <a:pt x="196" y="235"/>
                    <a:pt x="223" y="218"/>
                  </a:cubicBezTo>
                  <a:cubicBezTo>
                    <a:pt x="263" y="156"/>
                    <a:pt x="322" y="137"/>
                    <a:pt x="390" y="120"/>
                  </a:cubicBezTo>
                  <a:cubicBezTo>
                    <a:pt x="421" y="112"/>
                    <a:pt x="442" y="93"/>
                    <a:pt x="473" y="88"/>
                  </a:cubicBezTo>
                  <a:cubicBezTo>
                    <a:pt x="483" y="81"/>
                    <a:pt x="498" y="78"/>
                    <a:pt x="506" y="69"/>
                  </a:cubicBezTo>
                  <a:cubicBezTo>
                    <a:pt x="530" y="42"/>
                    <a:pt x="469" y="37"/>
                    <a:pt x="543" y="13"/>
                  </a:cubicBezTo>
                  <a:cubicBezTo>
                    <a:pt x="580" y="1"/>
                    <a:pt x="561" y="5"/>
                    <a:pt x="599" y="0"/>
                  </a:cubicBezTo>
                  <a:cubicBezTo>
                    <a:pt x="633" y="6"/>
                    <a:pt x="668" y="7"/>
                    <a:pt x="701" y="18"/>
                  </a:cubicBezTo>
                  <a:cubicBezTo>
                    <a:pt x="723" y="25"/>
                    <a:pt x="753" y="95"/>
                    <a:pt x="775" y="120"/>
                  </a:cubicBezTo>
                  <a:cubicBezTo>
                    <a:pt x="798" y="146"/>
                    <a:pt x="820" y="146"/>
                    <a:pt x="845" y="167"/>
                  </a:cubicBezTo>
                  <a:cubicBezTo>
                    <a:pt x="878" y="195"/>
                    <a:pt x="891" y="213"/>
                    <a:pt x="933" y="222"/>
                  </a:cubicBezTo>
                  <a:cubicBezTo>
                    <a:pt x="974" y="243"/>
                    <a:pt x="988" y="254"/>
                    <a:pt x="1022" y="288"/>
                  </a:cubicBezTo>
                  <a:cubicBezTo>
                    <a:pt x="1030" y="296"/>
                    <a:pt x="1054" y="297"/>
                    <a:pt x="1054" y="297"/>
                  </a:cubicBezTo>
                  <a:cubicBezTo>
                    <a:pt x="1059" y="294"/>
                    <a:pt x="1063" y="290"/>
                    <a:pt x="1068" y="288"/>
                  </a:cubicBezTo>
                  <a:cubicBezTo>
                    <a:pt x="1074" y="285"/>
                    <a:pt x="1081" y="286"/>
                    <a:pt x="1087" y="283"/>
                  </a:cubicBezTo>
                  <a:cubicBezTo>
                    <a:pt x="1099" y="277"/>
                    <a:pt x="1108" y="267"/>
                    <a:pt x="1119" y="260"/>
                  </a:cubicBezTo>
                  <a:cubicBezTo>
                    <a:pt x="1131" y="234"/>
                    <a:pt x="1145" y="223"/>
                    <a:pt x="1170" y="209"/>
                  </a:cubicBezTo>
                  <a:cubicBezTo>
                    <a:pt x="1178" y="196"/>
                    <a:pt x="1184" y="183"/>
                    <a:pt x="1193" y="171"/>
                  </a:cubicBezTo>
                  <a:cubicBezTo>
                    <a:pt x="1238" y="113"/>
                    <a:pt x="1256" y="113"/>
                    <a:pt x="1328" y="102"/>
                  </a:cubicBezTo>
                  <a:cubicBezTo>
                    <a:pt x="1344" y="96"/>
                    <a:pt x="1338" y="101"/>
                    <a:pt x="1347" y="92"/>
                  </a:cubicBezTo>
                </a:path>
              </a:pathLst>
            </a:custGeom>
            <a:noFill/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751360" y="2614680"/>
            <a:ext cx="2276640" cy="814320"/>
            <a:chOff x="5751360" y="2614680"/>
            <a:chExt cx="2276640" cy="814320"/>
          </a:xfrm>
        </p:grpSpPr>
        <p:sp>
          <p:nvSpPr>
            <p:cNvPr id="65" name=""/>
            <p:cNvSpPr/>
            <p:nvPr/>
          </p:nvSpPr>
          <p:spPr>
            <a:xfrm>
              <a:off x="5894280" y="2781360"/>
              <a:ext cx="0" cy="64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51360" y="3286080"/>
              <a:ext cx="22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895720" y="2643120"/>
              <a:ext cx="2065320" cy="384120"/>
            </a:xfrm>
            <a:custGeom>
              <a:avLst/>
              <a:gdLst/>
              <a:ahLst/>
              <a:rect l="l" t="t" r="r" b="b"/>
              <a:pathLst>
                <a:path w="1301" h="242">
                  <a:moveTo>
                    <a:pt x="0" y="200"/>
                  </a:moveTo>
                  <a:cubicBezTo>
                    <a:pt x="16" y="170"/>
                    <a:pt x="17" y="137"/>
                    <a:pt x="42" y="112"/>
                  </a:cubicBezTo>
                  <a:cubicBezTo>
                    <a:pt x="59" y="76"/>
                    <a:pt x="40" y="106"/>
                    <a:pt x="70" y="84"/>
                  </a:cubicBezTo>
                  <a:cubicBezTo>
                    <a:pt x="129" y="41"/>
                    <a:pt x="162" y="13"/>
                    <a:pt x="237" y="0"/>
                  </a:cubicBezTo>
                  <a:cubicBezTo>
                    <a:pt x="293" y="9"/>
                    <a:pt x="281" y="30"/>
                    <a:pt x="307" y="70"/>
                  </a:cubicBezTo>
                  <a:cubicBezTo>
                    <a:pt x="323" y="95"/>
                    <a:pt x="392" y="165"/>
                    <a:pt x="418" y="181"/>
                  </a:cubicBezTo>
                  <a:cubicBezTo>
                    <a:pt x="428" y="194"/>
                    <a:pt x="445" y="215"/>
                    <a:pt x="460" y="223"/>
                  </a:cubicBezTo>
                  <a:cubicBezTo>
                    <a:pt x="475" y="231"/>
                    <a:pt x="507" y="242"/>
                    <a:pt x="507" y="242"/>
                  </a:cubicBezTo>
                  <a:cubicBezTo>
                    <a:pt x="567" y="236"/>
                    <a:pt x="621" y="224"/>
                    <a:pt x="683" y="218"/>
                  </a:cubicBezTo>
                  <a:cubicBezTo>
                    <a:pt x="703" y="198"/>
                    <a:pt x="723" y="189"/>
                    <a:pt x="748" y="177"/>
                  </a:cubicBezTo>
                  <a:cubicBezTo>
                    <a:pt x="766" y="149"/>
                    <a:pt x="778" y="159"/>
                    <a:pt x="813" y="163"/>
                  </a:cubicBezTo>
                  <a:cubicBezTo>
                    <a:pt x="865" y="178"/>
                    <a:pt x="934" y="135"/>
                    <a:pt x="985" y="126"/>
                  </a:cubicBezTo>
                  <a:cubicBezTo>
                    <a:pt x="1002" y="114"/>
                    <a:pt x="1013" y="102"/>
                    <a:pt x="1032" y="93"/>
                  </a:cubicBezTo>
                  <a:cubicBezTo>
                    <a:pt x="1080" y="41"/>
                    <a:pt x="1169" y="43"/>
                    <a:pt x="1236" y="33"/>
                  </a:cubicBezTo>
                  <a:cubicBezTo>
                    <a:pt x="1248" y="36"/>
                    <a:pt x="1261" y="39"/>
                    <a:pt x="1273" y="42"/>
                  </a:cubicBezTo>
                  <a:cubicBezTo>
                    <a:pt x="1282" y="44"/>
                    <a:pt x="1301" y="47"/>
                    <a:pt x="1301" y="47"/>
                  </a:cubicBezTo>
                </a:path>
              </a:pathLst>
            </a:custGeom>
            <a:noFill/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89600" y="2614680"/>
              <a:ext cx="2138400" cy="471240"/>
            </a:xfrm>
            <a:custGeom>
              <a:avLst/>
              <a:gdLst/>
              <a:ahLst/>
              <a:rect l="l" t="t" r="r" b="b"/>
              <a:pathLst>
                <a:path w="1347" h="297">
                  <a:moveTo>
                    <a:pt x="0" y="153"/>
                  </a:moveTo>
                  <a:cubicBezTo>
                    <a:pt x="20" y="173"/>
                    <a:pt x="46" y="205"/>
                    <a:pt x="74" y="213"/>
                  </a:cubicBezTo>
                  <a:cubicBezTo>
                    <a:pt x="83" y="222"/>
                    <a:pt x="98" y="227"/>
                    <a:pt x="107" y="236"/>
                  </a:cubicBezTo>
                  <a:cubicBezTo>
                    <a:pt x="122" y="251"/>
                    <a:pt x="128" y="268"/>
                    <a:pt x="144" y="283"/>
                  </a:cubicBezTo>
                  <a:cubicBezTo>
                    <a:pt x="168" y="274"/>
                    <a:pt x="196" y="235"/>
                    <a:pt x="223" y="218"/>
                  </a:cubicBezTo>
                  <a:cubicBezTo>
                    <a:pt x="263" y="156"/>
                    <a:pt x="322" y="137"/>
                    <a:pt x="390" y="120"/>
                  </a:cubicBezTo>
                  <a:cubicBezTo>
                    <a:pt x="421" y="112"/>
                    <a:pt x="442" y="93"/>
                    <a:pt x="473" y="88"/>
                  </a:cubicBezTo>
                  <a:cubicBezTo>
                    <a:pt x="483" y="81"/>
                    <a:pt x="498" y="78"/>
                    <a:pt x="506" y="69"/>
                  </a:cubicBezTo>
                  <a:cubicBezTo>
                    <a:pt x="530" y="42"/>
                    <a:pt x="469" y="37"/>
                    <a:pt x="543" y="13"/>
                  </a:cubicBezTo>
                  <a:cubicBezTo>
                    <a:pt x="580" y="1"/>
                    <a:pt x="561" y="5"/>
                    <a:pt x="599" y="0"/>
                  </a:cubicBezTo>
                  <a:cubicBezTo>
                    <a:pt x="633" y="6"/>
                    <a:pt x="668" y="7"/>
                    <a:pt x="701" y="18"/>
                  </a:cubicBezTo>
                  <a:cubicBezTo>
                    <a:pt x="723" y="25"/>
                    <a:pt x="753" y="95"/>
                    <a:pt x="775" y="120"/>
                  </a:cubicBezTo>
                  <a:cubicBezTo>
                    <a:pt x="798" y="146"/>
                    <a:pt x="820" y="146"/>
                    <a:pt x="845" y="167"/>
                  </a:cubicBezTo>
                  <a:cubicBezTo>
                    <a:pt x="878" y="195"/>
                    <a:pt x="891" y="213"/>
                    <a:pt x="933" y="222"/>
                  </a:cubicBezTo>
                  <a:cubicBezTo>
                    <a:pt x="974" y="243"/>
                    <a:pt x="988" y="254"/>
                    <a:pt x="1022" y="288"/>
                  </a:cubicBezTo>
                  <a:cubicBezTo>
                    <a:pt x="1030" y="296"/>
                    <a:pt x="1054" y="297"/>
                    <a:pt x="1054" y="297"/>
                  </a:cubicBezTo>
                  <a:cubicBezTo>
                    <a:pt x="1059" y="294"/>
                    <a:pt x="1063" y="290"/>
                    <a:pt x="1068" y="288"/>
                  </a:cubicBezTo>
                  <a:cubicBezTo>
                    <a:pt x="1074" y="285"/>
                    <a:pt x="1081" y="286"/>
                    <a:pt x="1087" y="283"/>
                  </a:cubicBezTo>
                  <a:cubicBezTo>
                    <a:pt x="1099" y="277"/>
                    <a:pt x="1108" y="267"/>
                    <a:pt x="1119" y="260"/>
                  </a:cubicBezTo>
                  <a:cubicBezTo>
                    <a:pt x="1131" y="234"/>
                    <a:pt x="1145" y="223"/>
                    <a:pt x="1170" y="209"/>
                  </a:cubicBezTo>
                  <a:cubicBezTo>
                    <a:pt x="1178" y="196"/>
                    <a:pt x="1184" y="183"/>
                    <a:pt x="1193" y="171"/>
                  </a:cubicBezTo>
                  <a:cubicBezTo>
                    <a:pt x="1238" y="113"/>
                    <a:pt x="1256" y="113"/>
                    <a:pt x="1328" y="102"/>
                  </a:cubicBezTo>
                  <a:cubicBezTo>
                    <a:pt x="1344" y="96"/>
                    <a:pt x="1338" y="101"/>
                    <a:pt x="1347" y="92"/>
                  </a:cubicBezTo>
                </a:path>
              </a:pathLst>
            </a:custGeom>
            <a:noFill/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816440" y="4875120"/>
            <a:ext cx="2232000" cy="785880"/>
            <a:chOff x="4816440" y="4875120"/>
            <a:chExt cx="2232000" cy="785880"/>
          </a:xfrm>
        </p:grpSpPr>
        <p:sp>
          <p:nvSpPr>
            <p:cNvPr id="70" name=""/>
            <p:cNvSpPr/>
            <p:nvPr/>
          </p:nvSpPr>
          <p:spPr>
            <a:xfrm>
              <a:off x="4959360" y="5013360"/>
              <a:ext cx="0" cy="64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16440" y="5518080"/>
              <a:ext cx="22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60800" y="4875120"/>
              <a:ext cx="2065320" cy="384120"/>
            </a:xfrm>
            <a:custGeom>
              <a:avLst/>
              <a:gdLst/>
              <a:ahLst/>
              <a:rect l="l" t="t" r="r" b="b"/>
              <a:pathLst>
                <a:path w="1301" h="242">
                  <a:moveTo>
                    <a:pt x="0" y="200"/>
                  </a:moveTo>
                  <a:cubicBezTo>
                    <a:pt x="16" y="170"/>
                    <a:pt x="17" y="137"/>
                    <a:pt x="42" y="112"/>
                  </a:cubicBezTo>
                  <a:cubicBezTo>
                    <a:pt x="59" y="76"/>
                    <a:pt x="40" y="106"/>
                    <a:pt x="70" y="84"/>
                  </a:cubicBezTo>
                  <a:cubicBezTo>
                    <a:pt x="129" y="41"/>
                    <a:pt x="162" y="13"/>
                    <a:pt x="237" y="0"/>
                  </a:cubicBezTo>
                  <a:cubicBezTo>
                    <a:pt x="293" y="9"/>
                    <a:pt x="281" y="30"/>
                    <a:pt x="307" y="70"/>
                  </a:cubicBezTo>
                  <a:cubicBezTo>
                    <a:pt x="323" y="95"/>
                    <a:pt x="392" y="165"/>
                    <a:pt x="418" y="181"/>
                  </a:cubicBezTo>
                  <a:cubicBezTo>
                    <a:pt x="428" y="194"/>
                    <a:pt x="445" y="215"/>
                    <a:pt x="460" y="223"/>
                  </a:cubicBezTo>
                  <a:cubicBezTo>
                    <a:pt x="475" y="231"/>
                    <a:pt x="507" y="242"/>
                    <a:pt x="507" y="242"/>
                  </a:cubicBezTo>
                  <a:cubicBezTo>
                    <a:pt x="567" y="236"/>
                    <a:pt x="621" y="224"/>
                    <a:pt x="683" y="218"/>
                  </a:cubicBezTo>
                  <a:cubicBezTo>
                    <a:pt x="703" y="198"/>
                    <a:pt x="723" y="189"/>
                    <a:pt x="748" y="177"/>
                  </a:cubicBezTo>
                  <a:cubicBezTo>
                    <a:pt x="766" y="149"/>
                    <a:pt x="778" y="159"/>
                    <a:pt x="813" y="163"/>
                  </a:cubicBezTo>
                  <a:cubicBezTo>
                    <a:pt x="865" y="178"/>
                    <a:pt x="934" y="135"/>
                    <a:pt x="985" y="126"/>
                  </a:cubicBezTo>
                  <a:cubicBezTo>
                    <a:pt x="1002" y="114"/>
                    <a:pt x="1013" y="102"/>
                    <a:pt x="1032" y="93"/>
                  </a:cubicBezTo>
                  <a:cubicBezTo>
                    <a:pt x="1080" y="41"/>
                    <a:pt x="1169" y="43"/>
                    <a:pt x="1236" y="33"/>
                  </a:cubicBezTo>
                  <a:cubicBezTo>
                    <a:pt x="1248" y="36"/>
                    <a:pt x="1261" y="39"/>
                    <a:pt x="1273" y="42"/>
                  </a:cubicBezTo>
                  <a:cubicBezTo>
                    <a:pt x="1282" y="44"/>
                    <a:pt x="1301" y="47"/>
                    <a:pt x="1301" y="47"/>
                  </a:cubicBezTo>
                </a:path>
              </a:pathLst>
            </a:custGeom>
            <a:noFill/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782640" y="5494320"/>
            <a:ext cx="2276640" cy="814320"/>
            <a:chOff x="782640" y="5494320"/>
            <a:chExt cx="2276640" cy="814320"/>
          </a:xfrm>
        </p:grpSpPr>
        <p:sp>
          <p:nvSpPr>
            <p:cNvPr id="74" name=""/>
            <p:cNvSpPr/>
            <p:nvPr/>
          </p:nvSpPr>
          <p:spPr>
            <a:xfrm>
              <a:off x="925560" y="5661000"/>
              <a:ext cx="0" cy="64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82640" y="6165720"/>
              <a:ext cx="22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7000" y="5522760"/>
              <a:ext cx="2065320" cy="384120"/>
            </a:xfrm>
            <a:custGeom>
              <a:avLst/>
              <a:gdLst/>
              <a:ahLst/>
              <a:rect l="l" t="t" r="r" b="b"/>
              <a:pathLst>
                <a:path w="1301" h="242">
                  <a:moveTo>
                    <a:pt x="0" y="200"/>
                  </a:moveTo>
                  <a:cubicBezTo>
                    <a:pt x="16" y="170"/>
                    <a:pt x="17" y="137"/>
                    <a:pt x="42" y="112"/>
                  </a:cubicBezTo>
                  <a:cubicBezTo>
                    <a:pt x="59" y="76"/>
                    <a:pt x="40" y="106"/>
                    <a:pt x="70" y="84"/>
                  </a:cubicBezTo>
                  <a:cubicBezTo>
                    <a:pt x="129" y="41"/>
                    <a:pt x="162" y="13"/>
                    <a:pt x="237" y="0"/>
                  </a:cubicBezTo>
                  <a:cubicBezTo>
                    <a:pt x="293" y="9"/>
                    <a:pt x="281" y="30"/>
                    <a:pt x="307" y="70"/>
                  </a:cubicBezTo>
                  <a:cubicBezTo>
                    <a:pt x="323" y="95"/>
                    <a:pt x="392" y="165"/>
                    <a:pt x="418" y="181"/>
                  </a:cubicBezTo>
                  <a:cubicBezTo>
                    <a:pt x="428" y="194"/>
                    <a:pt x="445" y="215"/>
                    <a:pt x="460" y="223"/>
                  </a:cubicBezTo>
                  <a:cubicBezTo>
                    <a:pt x="475" y="231"/>
                    <a:pt x="507" y="242"/>
                    <a:pt x="507" y="242"/>
                  </a:cubicBezTo>
                  <a:cubicBezTo>
                    <a:pt x="567" y="236"/>
                    <a:pt x="621" y="224"/>
                    <a:pt x="683" y="218"/>
                  </a:cubicBezTo>
                  <a:cubicBezTo>
                    <a:pt x="703" y="198"/>
                    <a:pt x="723" y="189"/>
                    <a:pt x="748" y="177"/>
                  </a:cubicBezTo>
                  <a:cubicBezTo>
                    <a:pt x="766" y="149"/>
                    <a:pt x="778" y="159"/>
                    <a:pt x="813" y="163"/>
                  </a:cubicBezTo>
                  <a:cubicBezTo>
                    <a:pt x="865" y="178"/>
                    <a:pt x="934" y="135"/>
                    <a:pt x="985" y="126"/>
                  </a:cubicBezTo>
                  <a:cubicBezTo>
                    <a:pt x="1002" y="114"/>
                    <a:pt x="1013" y="102"/>
                    <a:pt x="1032" y="93"/>
                  </a:cubicBezTo>
                  <a:cubicBezTo>
                    <a:pt x="1080" y="41"/>
                    <a:pt x="1169" y="43"/>
                    <a:pt x="1236" y="33"/>
                  </a:cubicBezTo>
                  <a:cubicBezTo>
                    <a:pt x="1248" y="36"/>
                    <a:pt x="1261" y="39"/>
                    <a:pt x="1273" y="42"/>
                  </a:cubicBezTo>
                  <a:cubicBezTo>
                    <a:pt x="1282" y="44"/>
                    <a:pt x="1301" y="47"/>
                    <a:pt x="1301" y="47"/>
                  </a:cubicBezTo>
                </a:path>
              </a:pathLst>
            </a:custGeom>
            <a:noFill/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0880" y="5494320"/>
              <a:ext cx="2138400" cy="471240"/>
            </a:xfrm>
            <a:custGeom>
              <a:avLst/>
              <a:gdLst/>
              <a:ahLst/>
              <a:rect l="l" t="t" r="r" b="b"/>
              <a:pathLst>
                <a:path w="1347" h="297">
                  <a:moveTo>
                    <a:pt x="0" y="153"/>
                  </a:moveTo>
                  <a:cubicBezTo>
                    <a:pt x="20" y="173"/>
                    <a:pt x="46" y="205"/>
                    <a:pt x="74" y="213"/>
                  </a:cubicBezTo>
                  <a:cubicBezTo>
                    <a:pt x="83" y="222"/>
                    <a:pt x="98" y="227"/>
                    <a:pt x="107" y="236"/>
                  </a:cubicBezTo>
                  <a:cubicBezTo>
                    <a:pt x="122" y="251"/>
                    <a:pt x="128" y="268"/>
                    <a:pt x="144" y="283"/>
                  </a:cubicBezTo>
                  <a:cubicBezTo>
                    <a:pt x="168" y="274"/>
                    <a:pt x="196" y="235"/>
                    <a:pt x="223" y="218"/>
                  </a:cubicBezTo>
                  <a:cubicBezTo>
                    <a:pt x="263" y="156"/>
                    <a:pt x="322" y="137"/>
                    <a:pt x="390" y="120"/>
                  </a:cubicBezTo>
                  <a:cubicBezTo>
                    <a:pt x="421" y="112"/>
                    <a:pt x="442" y="93"/>
                    <a:pt x="473" y="88"/>
                  </a:cubicBezTo>
                  <a:cubicBezTo>
                    <a:pt x="483" y="81"/>
                    <a:pt x="498" y="78"/>
                    <a:pt x="506" y="69"/>
                  </a:cubicBezTo>
                  <a:cubicBezTo>
                    <a:pt x="530" y="42"/>
                    <a:pt x="469" y="37"/>
                    <a:pt x="543" y="13"/>
                  </a:cubicBezTo>
                  <a:cubicBezTo>
                    <a:pt x="580" y="1"/>
                    <a:pt x="561" y="5"/>
                    <a:pt x="599" y="0"/>
                  </a:cubicBezTo>
                  <a:cubicBezTo>
                    <a:pt x="633" y="6"/>
                    <a:pt x="668" y="7"/>
                    <a:pt x="701" y="18"/>
                  </a:cubicBezTo>
                  <a:cubicBezTo>
                    <a:pt x="723" y="25"/>
                    <a:pt x="753" y="95"/>
                    <a:pt x="775" y="120"/>
                  </a:cubicBezTo>
                  <a:cubicBezTo>
                    <a:pt x="798" y="146"/>
                    <a:pt x="820" y="146"/>
                    <a:pt x="845" y="167"/>
                  </a:cubicBezTo>
                  <a:cubicBezTo>
                    <a:pt x="878" y="195"/>
                    <a:pt x="891" y="213"/>
                    <a:pt x="933" y="222"/>
                  </a:cubicBezTo>
                  <a:cubicBezTo>
                    <a:pt x="974" y="243"/>
                    <a:pt x="988" y="254"/>
                    <a:pt x="1022" y="288"/>
                  </a:cubicBezTo>
                  <a:cubicBezTo>
                    <a:pt x="1030" y="296"/>
                    <a:pt x="1054" y="297"/>
                    <a:pt x="1054" y="297"/>
                  </a:cubicBezTo>
                  <a:cubicBezTo>
                    <a:pt x="1059" y="294"/>
                    <a:pt x="1063" y="290"/>
                    <a:pt x="1068" y="288"/>
                  </a:cubicBezTo>
                  <a:cubicBezTo>
                    <a:pt x="1074" y="285"/>
                    <a:pt x="1081" y="286"/>
                    <a:pt x="1087" y="283"/>
                  </a:cubicBezTo>
                  <a:cubicBezTo>
                    <a:pt x="1099" y="277"/>
                    <a:pt x="1108" y="267"/>
                    <a:pt x="1119" y="260"/>
                  </a:cubicBezTo>
                  <a:cubicBezTo>
                    <a:pt x="1131" y="234"/>
                    <a:pt x="1145" y="223"/>
                    <a:pt x="1170" y="209"/>
                  </a:cubicBezTo>
                  <a:cubicBezTo>
                    <a:pt x="1178" y="196"/>
                    <a:pt x="1184" y="183"/>
                    <a:pt x="1193" y="171"/>
                  </a:cubicBezTo>
                  <a:cubicBezTo>
                    <a:pt x="1238" y="113"/>
                    <a:pt x="1256" y="113"/>
                    <a:pt x="1328" y="102"/>
                  </a:cubicBezTo>
                  <a:cubicBezTo>
                    <a:pt x="1344" y="96"/>
                    <a:pt x="1338" y="101"/>
                    <a:pt x="1347" y="92"/>
                  </a:cubicBezTo>
                </a:path>
              </a:pathLst>
            </a:custGeom>
            <a:noFill/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6156360" y="2565360"/>
            <a:ext cx="0" cy="93492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43640" y="2565360"/>
            <a:ext cx="0" cy="93492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2565360"/>
            <a:ext cx="0" cy="93492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0000" y="2565360"/>
            <a:ext cx="0" cy="93492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08720" y="2565360"/>
            <a:ext cx="0" cy="93492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96360" y="2565360"/>
            <a:ext cx="0" cy="93492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85080" y="2565360"/>
            <a:ext cx="0" cy="93492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6760" y="2637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04040" y="278136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91320" y="298944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86520" y="292752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57960" y="2849400"/>
            <a:ext cx="7164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3160" y="271620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40800" y="267012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08840" y="2989440"/>
            <a:ext cx="71280" cy="71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04040" y="2808360"/>
            <a:ext cx="71280" cy="71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83400" y="2611440"/>
            <a:ext cx="71280" cy="71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78600" y="2612880"/>
            <a:ext cx="71640" cy="716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56520" y="2882880"/>
            <a:ext cx="71280" cy="71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1720" y="3035160"/>
            <a:ext cx="71280" cy="716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46920" y="2759040"/>
            <a:ext cx="71640" cy="716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74120" y="2075040"/>
            <a:ext cx="203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pled data 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084720" y="3716280"/>
                <a:ext cx="1689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⋯</m:t>
                            </m:r>
                          </m:e>
                        </m:d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⋯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3780000" y="2781360"/>
            <a:ext cx="1512720" cy="287280"/>
          </a:xfrm>
          <a:prstGeom prst="rightArrow">
            <a:avLst>
              <a:gd name="adj1" fmla="val 50000"/>
              <a:gd name="adj2" fmla="val 1316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189400">
            <a:off x="3058920" y="4149720"/>
            <a:ext cx="1800000" cy="287280"/>
          </a:xfrm>
          <a:prstGeom prst="rightArrow">
            <a:avLst>
              <a:gd name="adj1" fmla="val 50000"/>
              <a:gd name="adj2" fmla="val 1566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1403280" y="4039920"/>
            <a:ext cx="1366920" cy="287280"/>
          </a:xfrm>
          <a:prstGeom prst="rightArrow">
            <a:avLst>
              <a:gd name="adj1" fmla="val 50000"/>
              <a:gd name="adj2" fmla="val 1189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81320" y="4378320"/>
            <a:ext cx="18752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respon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92720" y="4869000"/>
            <a:ext cx="0" cy="647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051520" y="5589720"/>
                <a:ext cx="672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935680" y="5576760"/>
                <a:ext cx="723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6300720" y="5157720"/>
            <a:ext cx="0" cy="358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4941720"/>
            <a:ext cx="0" cy="57492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72360" y="5864400"/>
                <a:ext cx="7110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977760" y="4954680"/>
            <a:ext cx="22701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al data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525680" y="6308640"/>
                <a:ext cx="7239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B81E-ACA3-47A2-8745-1EE7C3DF78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ys of viewing functio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Sampled data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approach for dealing with time traces – time series – predominant approach in control modeling and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assume uniform sampling – measurements are available at regular inter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 are typically discrete-time – difference or recursion equations  e.g., 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Multiple responses at discrete points from continuous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 approach in fundamental process modeling – e.g., predicting polymer molecular weight distributions at different chain lengths, chemical concentrations at different times, particle size dis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 are measurements at particular times or 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unctional data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object is a continuous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904D-9BEF-4179-92AE-7B02408EFE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 of this t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 how FDA techniques can be used to model dynamic and steady-state process behavio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n overview of two relevant FDA techniqu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rincipal differential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al reg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nt on the relationship between FDA approaches and existing appro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109E-6350-475C-809E-1A23589001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15:22:55Z</dcterms:created>
  <dc:creator>McLellan</dc:creator>
  <dc:description/>
  <dc:language>en-US</dc:language>
  <cp:lastModifiedBy>James McLellan</cp:lastModifiedBy>
  <dcterms:modified xsi:type="dcterms:W3CDTF">2007-07-03T12:22:44Z</dcterms:modified>
  <cp:revision>363</cp:revision>
  <dc:subject/>
  <dc:title>Slide 1</dc:title>
</cp:coreProperties>
</file>