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F32-9640-4B2C-9AC6-E98BDB12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D6C-6780-4113-97E0-0B40B7E1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671-8B98-45C3-B956-DE41CED8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025-B353-4840-BFB6-88EEC3AA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19D2-5347-45A4-82AC-7C9B339A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B07B-02E3-412A-AA89-CF08F275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BC10-17F9-4FC8-9F71-C96FBDEC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8E19-EE5C-475E-B6CE-A115D598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EF41-237A-4B42-8FA2-F2763CDC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26AD-AD97-4013-AB85-0897B771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124E-AAD6-44CC-A9CA-F02E9EF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60F-1A80-432C-A131-DC3FAADB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665E-8C48-41E4-8186-50615215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716E-846B-49E2-8DB2-BC4B0012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9106-BCE4-4C99-AB4D-82AF4DAB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339D-8A58-45C8-8496-B28487AC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19A9-2F9B-4F1F-8DD0-199631EC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D8F-5132-453B-8265-A09E9184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8E8-5BF9-4ED6-A889-16287B53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9D9-28B2-4BD4-90B2-0E5C9212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6F1-F22C-48FE-B3B3-0D7558D7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C96-E9DA-4184-ADC4-BF5AFC94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A09-A6A3-41AF-83D4-103F7CD0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43C-2126-4987-9AD2-015CB95B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5996-7387-4F06-B57E-FB5106726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0290-0F87-4C52-BFF2-B3F31F88B5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ting the Nondurable Goods Ind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248520" cy="5064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on-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705360" cy="5303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ing at seasonal trend itself does not reveal as much as looking at the interplay betwee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Veloc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its first derivative, reflecting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kinetic ener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the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Acceler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its second derivative, reflecting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potential ener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phase-plane diagr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lots acceleration against veloci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purely sinusoidal trend, the plot would be an ellip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sition of a swinging pendul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 for pendul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505320" y="1371600"/>
          <a:ext cx="6629400" cy="508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371600"/>
                    <a:ext cx="66294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 for 196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three large loops separated by two small loops or cusp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pring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id-January into Apr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ummer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y through Augu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Fall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October through Dece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look at the years 1929-1931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durable goods last less than two years: Food, clothing, cigarettes, alcohol, but not personal computer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ondurable goods manufacturing index is an indicator of the economics of everyda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dex has been published monthly by the US Federal Reserve Board since 191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complements the durable goods manufacturing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929 through 193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ock market crash shows up as a large negative surge in velo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equent years nearly lose the fall production cycle, as people tighten their belts and spend less at Christ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happened in 1937-1938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937 and 193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easury Board, fearing that the economy was becoming overheated again, clamped down on the money supply.  The effect was catastrophic, and nearly wiped out the fall cyc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new crash was even more dramatic than that of 1929, but was forgotten because of the outbreak of World War 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World War I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World War II, the seasonal cycle became very small, since the war, and the production that fed it, lasted all year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look at three pivotal years, 1974 to 1976, when the Vietnam War ended and the OPEC oil crisis happened.  Watch the shrinking of the fall cy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 want to 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important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 the overall trend in the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look at the annual or seasonal behavior of the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how the seasonal behavior changes over the years and with specific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toda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se day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the last ten years the size of all three cycles have become much smal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variation now smoothed out by information technolog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 aging baby boomers spending l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personal computers, video games, and other electronic goods really durab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manufacturing now moved off sho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separate long- and medium-term trends from seasonal trends by smoo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plane plots are great ways to inspect season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ivatives were used in two ways: to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penalize rough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to reflect 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dynam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manufactu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ends in Season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ee by inspection that seasonal trends change systematically over time, and can also change abrup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irst estimate the principal components of seasonal variation, using a version of principal components analysis adapted to functional data, and sensitive only to effects periodic over on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5438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8487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92468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log nondurable goods ind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mpon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ive sizes of spring and summer cycles (5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t size of spring and summer cycles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ze of fall cycle (11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otting Component Sc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ompute scores at each year for these three principal components, sometimes called empirical orthogonal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e evolution of these scores over the 51 years shows some interesting structural changes in the economics of everyda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rap-up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plane plots are good for inspecting seasonal quasi-harmonic tr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ipal components analysis reveals main components of variation in seasonal tr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component scores shows how trend has evolv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joint with work with James B. Ramsey, Dept. of Economics, New York University, and is reported 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ay, J. O. and Ramsey, J. B. (2001) Functional data analysis of the dynamics of the monthly index of non‑durable goods production.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ournal of Econometr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07, 327‑34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vents and Tren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9 stock market cra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7 restriction of money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74 end of Vietnam war, OPEC oil cri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 te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ld War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sually rapid growth 1960-197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sually slow growth 1990 to pres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 term increase of 1.5% per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volution of 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cus on the years 1948 to 19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estimate long- and medium-term trend by spline smoothing, but with knots too far apart to capture seasonal tr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ubtract this smooth trend to leave only seasonal tr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1486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moothing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523880"/>
            <a:ext cx="7238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ant to represent the dat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a smooth cur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(t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ve should have at least two smooth derivatives.  We use spline smoothing, penalizing the size of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riva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14400" y="3733920"/>
          <a:ext cx="7467480" cy="10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733920"/>
                    <a:ext cx="74674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914400" y="5029200"/>
            <a:ext cx="754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unction Pspline in S-PLUS is available by ftp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o.psych.mcgill.ca/pub/ramsay/FDAfu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838080" y="1371600"/>
          <a:ext cx="73152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371600"/>
                    <a:ext cx="73152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years of typical trend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964-196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ly three peaks per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rgest is in the fall, peaking at the beginning of Octo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w point is mid-Dec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3:37:38Z</dcterms:created>
  <dc:creator>James Ramsay</dc:creator>
  <dc:description/>
  <dc:language>en-US</dc:language>
  <cp:lastModifiedBy>ramsay</cp:lastModifiedBy>
  <dcterms:modified xsi:type="dcterms:W3CDTF">2003-06-30T18:45:34Z</dcterms:modified>
  <cp:revision>21</cp:revision>
  <dc:subject/>
  <dc:title>PowerPoint Presentation</dc:title>
</cp:coreProperties>
</file>