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34D-C7B4-4E15-998B-22D83AAA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50E-8ABB-4883-A4AC-2F89340B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01F-539F-4533-9E05-1AEF6201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43D-ED4E-45E0-BDC0-9D047867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16E5-55AD-4F20-A130-3F5A0356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7F6B-30CE-4CF2-8632-9110422D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EF4C-B10E-4900-902C-46D8B3FE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114A-2F2B-494C-8EA1-B18BECAD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71E1-E979-4A13-998F-50068326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1F0B-1807-455A-97BE-5BDD1317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6CD0-3156-4386-88A8-DA20181A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9CC-E207-49EF-9075-B18A0166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8C7F-47D5-4C26-8041-4FA232F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0E0E-E731-4119-A348-351ECD0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1947-940A-46D8-8ED8-9626B02F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C98B-D4DC-4753-93C6-0948239D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B225-4AA3-4BF0-BC6D-10478E74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33E-B896-4C92-BD0B-40AF32D7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67E-C947-496C-987D-B0367DA6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650-F647-47DE-ABD3-91DEB7CD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BB3-C5B1-4A96-BBC3-778A3852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E27-185C-4BE0-BF8F-FE281340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38D-F7F1-4B4C-ABA2-D4ECF29F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5EC-4291-4032-88DB-5D8D82A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F5F9-55EE-459F-91C8-72F61419E8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D25E-C801-41D4-8F26-C1808CB27F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uman Growth: From data to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ive order 2 B-spline basis functions: </a:t>
            </a:r>
            <a:br>
              <a:rPr sz="40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 basis for polygonal lin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ight order 4 B-spline basis functions </a:t>
            </a:r>
            <a:br>
              <a:rPr sz="40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 basis for twice-differentiable func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-splines for growth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use order 6 B-splines because we want to differentiate the result at least twice.  Order 4 splines look smooth, but their second derivatives are roug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place a knot at each of the 31 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otal number of basis functions = order + number of interior knots.  35 in this c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sn’t using 35 basis functions to fit 31 observations a problem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.  We will fit each observation exac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ill ignore the fact that the measurement error is typically about 0.5 c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e’ll fix this up later, when we look at roughness pena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kay, let’s see what happe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two Matlab commands define the basis and fit the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basis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eate_bspline_basis([1,18], 35, 6, age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fd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ta2fd(hgtfmat, age, hgtbasi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we need to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24480" y="1752120"/>
            <a:ext cx="236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ise in the data has a huge impact on derivative estim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ease let me smooth the dat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ommand sets up 12 B-spline basis functions defined by equally spaced knots.  This gives us about the right amount of fitting power given the error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basis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eate_bspline_basis([1,18], 12, 6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re velocities are much bett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go negative on the right, thou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72404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t’s see some accele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cceleration curves are too unstable at the end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something bett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measure of rough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we mean by “smooth”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ction that is smooth has limited curv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vature depends on the second derivative. A straight line is completely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llenges to measuring grow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repeated and regular access to subjects for up to 20 yea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ight changes over the day, and must be measured at a fixe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ight is measured in supine position in infancy, followed by standing height.  The change involves an adjustment of about 1 c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ment error is about 0.5 cm in later years, but is rather larger in infan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urva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measure the roughness of a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integrating its squared second derivat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cond derivative notation i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267080" y="2917800"/>
          <a:ext cx="403884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2917800"/>
                    <a:ext cx="40388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urvature of accel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we want acceleration to be smooth, we measure roughness at the level of acceler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657600" y="2590920"/>
          <a:ext cx="4876920" cy="118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90920"/>
                    <a:ext cx="48769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enalized least squares criter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trike a compromise between fitting the data and keeping the fit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3809880"/>
          <a:ext cx="7543800" cy="12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9880"/>
                    <a:ext cx="754380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es this control roughnes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othing parameter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rols rough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fitting the data mat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a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s, we place more and more emphasis on penalizing rough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∞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roughness matters, and functions having zero roughness are us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either smooth at the data fitting step, or smooth a rough fun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atlab command smooths the fit to the data obtained using knots at ages.  The roughness of the fourth derivative is contro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lambda = 0.01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fd = smooth_fd(hgtfd, lambda, 4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ccelerations using a roughness penal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9096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ccelerations are much less variable at the extre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941480"/>
            <a:ext cx="52578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rresponding veloc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56386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did you choose 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smooth just enough to obtain tolerable roughness in the estimated curves (accelerations in this case), but not so much as to lose interesting vari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data-driven methods for choosing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but they offer only a reasonable place to begin explor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smoothing inevitably involves judg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monotonicit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owth curves should be monotonic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elocities should be non-nega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hard to prevent linear combinations of anything from breaking the r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an indirect approach to constructing a monotonic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differential equation for monotonic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strictly monotonic function x(t) must satisfy a simple linear differential equ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666880" y="3276720"/>
          <a:ext cx="403884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276720"/>
                    <a:ext cx="40388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49040" y="4248000"/>
            <a:ext cx="90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ason is simple: because of strict monotonicit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derivative Dx(t) will never be 0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 w(t) is therefore simply 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(t)/Dx(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hallenges to functional modelin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smooth curves that fit the data as well as is reason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want to look at velocity and acceleration, so we want to differentiate twice and still be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rinciple the curves should be monotone; i. e., have a positive deriva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olution of the differential equ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, any strictly monotonic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be expressible in the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371600" y="3276720"/>
          <a:ext cx="678168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276720"/>
                    <a:ext cx="678168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80880" y="457200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uggests that we transform the mono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ing problem into one of estimating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t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constant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 have learn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-spline bases are a good choice for fitting non-periodic functions; Fourier series are right for periodic situ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control smoothness by either using a restricted number of basis functions, or by imposing a roughness penal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ghness penalty methods generally work be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l equations can play a useful role when fitting constrained functions to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e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say &amp; Silverman (1997, 2004), Chs. 3, 4,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say &amp; Silverman (2002), Ch.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ng-term growth data are from the Berkeley growth stu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fant growth data were collected by Michael Hermanusse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ere do we go from her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to look more systematically at how to smooth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nvolves deciding what basis function system to 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lines are so important that we have to look at them in more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’s a serious problem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’s wrong with the mea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ross-sectional mean is the heavy blue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less amplitude variation than any singl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bertal growth spurt for the mean lasts longer than does any singl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blem is that we are averaging over curves in quite different stages of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’s wrong with the mea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ross-sectional mean is the heavy blue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less amplitude variation than any singl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bertal growth spurt for the mean lasts longer than does any singl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blem is that we are averaging over curves in quite different stages of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 and Amplitude Vari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al data like growth curves often show variation in the timing of events, like the pubertal growth spu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call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has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to find out how to separate phase from amplitude variation before we can do even simple things like compute mean curv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monotonicity probl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ibia of a newborn measured daily shows us that over the short term growth takes places in spur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baby’s tibia grows as fast as 2 mm/da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we fit a smooth monotone function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2068560"/>
            <a:ext cx="403848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eighted sums of basis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need a flexible method for constructing curves to fit the d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begin with a set of basic functional building blocks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φ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alled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basis func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r fitting functio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a weighted sum of these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716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3355920"/>
          <a:ext cx="4038480" cy="13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3355920"/>
                    <a:ext cx="40384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the main choices for basis functions?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Fourier ser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nstant ter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ne/cosine pair of fixed frequency,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ed by a series of sine/cosine pairs with integer multiples of the base frequen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ier series are best for periodic dat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ve Fourier basis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basis functions are piecewise polynomials defined by a set of discrete values called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kno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ord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polynomials (degree + 1) controls their smoothnes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basis function is nonzero only over a number of contiguous inter-knot intervals equal to the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nomials are a special type of B-spline, and are thus included within the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-spl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en should I use B-splines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-splines are the basis of choice for most non-period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give complete control over flexibility, allowing more flexibility where needed and less where not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ing with B-splines is extremely effici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12:49:23Z</dcterms:created>
  <dc:creator>J. O. Ramsay</dc:creator>
  <dc:description/>
  <dc:language>en-US</dc:language>
  <cp:lastModifiedBy>ramsay</cp:lastModifiedBy>
  <dcterms:modified xsi:type="dcterms:W3CDTF">2004-06-07T16:58:13Z</dcterms:modified>
  <cp:revision>13</cp:revision>
  <dc:subject/>
  <dc:title>Human Grow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