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7.png" ContentType="image/pn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39.png" ContentType="image/png"/>
  <Override PartName="/ppt/media/image31.wmf" ContentType="image/x-wmf"/>
  <Override PartName="/ppt/media/image46.png" ContentType="image/png"/>
  <Override PartName="/ppt/media/image6.wmf" ContentType="image/x-wmf"/>
  <Override PartName="/ppt/media/image29.wmf" ContentType="image/x-wmf"/>
  <Override PartName="/ppt/media/image35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42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43.png" ContentType="image/png"/>
  <Override PartName="/ppt/media/image26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1.png" ContentType="image/png"/>
  <Override PartName="/ppt/media/image9.wmf" ContentType="image/x-wmf"/>
  <Override PartName="/ppt/media/image13.wmf" ContentType="image/x-wmf"/>
  <Override PartName="/ppt/media/image40.png" ContentType="image/png"/>
  <Override PartName="/ppt/media/image8.wmf" ContentType="image/x-wmf"/>
  <Override PartName="/ppt/media/image3.wmf" ContentType="image/x-wmf"/>
  <Override PartName="/ppt/media/image33.wmf" ContentType="image/x-wmf"/>
  <Override PartName="/ppt/media/image12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60D-AA56-4458-9C43-4F5E2C0F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FFFB-8B0A-4246-9B21-10C8BD11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DE6-81D9-46F3-81F0-26D6ADB4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003-9B9E-4FAB-8FAC-179C5D2A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9581-5AB2-4E1F-B016-F0671BC0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39C9-6D80-446B-AD9C-5C835D9F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7E12-188F-4EE9-8FC2-D93BC910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A86C-60CD-4B1E-BF78-E70F0D23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8AB8-A080-4E13-BA2C-1F78D3BB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9F46-E884-4FC9-A6A0-E51359DB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714E-F4D6-4136-B871-A0CDA712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730-053B-450F-9D03-A1795AD6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6D81-ACEF-4ADF-A79E-38ACB754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CA0F-23F0-434E-A93C-1D2480C3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AB10-572D-4F8C-913C-30E7B65D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4CDA-552C-4348-8646-D6182D2A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BA75-9BB7-489F-8140-67B8B11C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35D-A794-466F-956C-28492B34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389-D088-4A6A-A007-0B654AE2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B5D-B602-44AF-9C98-B68258E1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E5C3-8630-4478-BFD2-12A06AFD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73E4-8396-45B9-9C0E-6BB2C3B1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9FC-7248-46F7-9EF9-2C44C1FA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023-45A5-430D-91B8-03D7C65D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7F6F-261B-4080-BA6B-61FEE6110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2AE7-6AD8-4AA5-AD53-132E02B60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sych.mcgill.ca/misc/fda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 Introduction to Functional Data Analysi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im Rams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Gill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kay, let’s see what happe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two Matlab commands define the basis and fit the da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basis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reate_bspline_basis([1,18], 35, 6, age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fd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ata2fd(hgtfmat, age, hgtbasis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we need to smoo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24480" y="1752120"/>
            <a:ext cx="2362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ise in the data has a huge impact on derivative estim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ease let me smooth the data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ommand sets up 12 B-spline basis functions defined by equally spaced knots.  This gives us about the right amount of fitting power given the error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basis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reate_bspline_basis([1,18], 12, 6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re velocities are much better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go negative on the right, thou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172404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t’s see some acceler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cceleration curves are too unstable at the end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need something bett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measure of roughn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we mean by “smooth”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unction that is smooth has limited curv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vature depends on the second derivative. A straight line is completely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 curva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measure the roughness of a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y integrating its squared second derivati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cond derivative notation i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267080" y="2979720"/>
          <a:ext cx="4038840" cy="76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2979720"/>
                    <a:ext cx="403884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 curvature of accele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124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we want acceleration to be smooth, we measure roughness at the level of acceler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657600" y="2670120"/>
          <a:ext cx="4876920" cy="10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670120"/>
                    <a:ext cx="48769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penalized least squares criter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trike a compromise between fitting the data and keeping the fit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3855960"/>
          <a:ext cx="7543800" cy="11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855960"/>
                    <a:ext cx="7543800" cy="11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es this control roughnes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oothing parameter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rols rough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0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fitting the data mat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a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s, we place more and more emphasis on penalizing rough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∞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roughness matters, and functions having zero roughness are use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’ll use three case studies to see what is meant by functional data, and to consider some important issues in the analysis of functional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 growth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 nondurable goods manufacturing ind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ty years of Montreal wea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either smooth at the data fitting step, or smooth a rough fun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atlab command smooths the fit to the data obtained using knots at ages.  The roughness of the fourth derivative is contro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lambda = 0.01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fd = smooth_fd(hgtfd, lambda, 4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ccelerations using a roughness penal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9096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ccelerations are much less variable at the extre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7200" y="1941480"/>
            <a:ext cx="52578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corresponding velocities look good, to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563868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did you choose </a:t>
            </a:r>
            <a:r>
              <a:rPr b="0" i="1" lang="el-GR" sz="4400" spc="-1" strike="noStrike">
                <a:solidFill>
                  <a:srgbClr val="e5ffff"/>
                </a:solidFill>
                <a:latin typeface="Tahoma"/>
              </a:rPr>
              <a:t>λ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mooth just enough to obtain tolerable roughness in the estimated curves (accelerations in this case), but not so much as to lose interesting vari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data-driven methods for choosing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but they offer only a reasonable place to begin exploring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this is inevitably involves judg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monotonicit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owth curves should be monotonic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velocities should be non-negat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hard to prevent linear combinations of anything from breaking rules like monotoni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an indirect approach to constructing a monotonic mod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differential equation for monotonic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strictly monotonic function x(t) must satisfy a simple linear differential equ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666880" y="3276720"/>
          <a:ext cx="4038840" cy="76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276720"/>
                    <a:ext cx="403884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49400" y="4248000"/>
            <a:ext cx="901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ason is simple: Because of strict monotonicit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rst derivative Dx(t) will never be 0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 w(t) is therefore simply 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(t)/Dx(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solution of the differential equ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quently, any strictly monotonic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 be expressible in the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371600" y="3276720"/>
          <a:ext cx="6781680" cy="12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276720"/>
                    <a:ext cx="678168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80880" y="4572000"/>
            <a:ext cx="8458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uggests that we transform the mono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ing problem into one of estimating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t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constants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we have learned from the growth dat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control smoothness by either using a restricted number of basis functions, or by imposing a roughness penal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ghness penalty methods generally work better than simple basis expans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l equations can play a useful role in defining constrained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ting the Nondurable Goods Index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076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durable goods last less than two years: Food, clothing, cigarettes, alcohol, but not personal computers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ondurable goods manufacturing index is an indicator of the economics of everyday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dex has been published monthly by the US Federal Reserve Board since 1919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complements the durable goods manufacturing inde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uman Growth: From data to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we want to d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at important ev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ine the overall trend in the inde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a look at the annual or seasonal behavior of the inde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how the seasonal behavior changes over the years and with specific ev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log nondurable goods index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vents and Trend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29 stock market cra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7 restriction of money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74 end of Vietnam war, OPEC oil cri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um te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ld War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usually rapid growth 1960-197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usually slow growth 1990 to pres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 term increase of 1.5% per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volution of seasonal tr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ocus on the years 1948 to 199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estimate long- and medium-term trend by spline smoothing, but with knots too far apart to capture seasonal tr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ubtract this smooth trend to leave only seasonal tr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1486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moothing 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1523880"/>
            <a:ext cx="7238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ant to represent the dat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a smooth cur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(t)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urve should have at least two smooth derivatives.  We use spline smoothing, penalizing the size of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riva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14400" y="3733920"/>
          <a:ext cx="7467480" cy="107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3733920"/>
                    <a:ext cx="746748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914400" y="5029200"/>
            <a:ext cx="7543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unction Pspline in S-PLUS is available by ftp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o.psych.mcgill.ca/pub/ramsay/FDAfu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838080" y="1371600"/>
          <a:ext cx="731520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371600"/>
                    <a:ext cx="73152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ree years of typical trend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1964-196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asonal Tr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ly three peaks per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rgest is in the fall, peaking at the beginning of Octo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ow point is mid-Dece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248520" cy="50641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on-seasonal trend is in r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447920" y="1596960"/>
            <a:ext cx="6324480" cy="5002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easonal trend = data – nonseasonal tren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ing at seasonal trend itself does not reveal as much as looking at the interplay betwee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Veloci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 its first derivative, reflecting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kinetic energ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 the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Acceler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 its second derivative, reflecting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potential energ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phase-plane diagra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lots acceleration against velocity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purely sinusoidal trend, the plot would be an ellip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repeated and regular access to subjects for up to 20 ye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ight changes over the day, and must be measured at a fixed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ight is measured in supine position in infancy, followed by standing height.  The change involves an adjustment of about 1 c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surement error is about 0.5 cm in later years, but is rather larger in infanc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surements are not taken at equally spaced points in tim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sition of a swinging pendul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 for pendul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3244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505320" y="1371600"/>
          <a:ext cx="6629400" cy="508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371600"/>
                    <a:ext cx="662940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 for 196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three large loops separated by two small loops or cusp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Spring cyc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id-January into Apr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Summer cyc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y through Augu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Fall cyc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October through Dece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look at the years 1929-1931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929 through 193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ock market crash shows up as a large negative surge in velo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sequent years nearly lose the fall production cycle, as people tighten their belts and spend less at Christ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happened in 1937-1938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hallenges to functional modeling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smooth curves that fit the data as well as is reason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want to look at velocity and acceleration, so we want to differentiate twice and still be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principle the curves should be monotone; i. e., have a positive derivat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937 and 1938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reasury Board, fearing that the economy was becoming overheated again, clamped down on the money supply.  The effect was catastrophic, and nearly wiped out the fall cycl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new crash was even more dramatic than that of 1929, but was forgotten because of the outbreak of World War I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World War II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ing World War II, the seasonal cycle became very small, since the war, and the production that fed it, lasted all year 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look at three pivotal years, 1974 to 1976, when the Vietnam War ended and the OPEC oil crisis happened.  Watch the shrinking of the fall cy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toda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monotonicity probl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ibia of a newborn measured daily shows us that over the short term growth takes places in spur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baby’s tibia grows as fast as 2 mm/da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we fit a smooth monotone function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2068560"/>
            <a:ext cx="403848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se day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 the last ten years the size of all three cycles have become much small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variation now smoothed out by information technolog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the aging baby boomers spending le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personal computers, video games, and other electronic goods really durabl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manufacturing now moved off sho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separate long- and medium-term trends from seasonal trends by smoot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-plane plots are great ways to inspect seasona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ivatives were used in two ways: to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penalize roughn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nd to reflect the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dynamic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manufactur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ends in Seasona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ee by inspection that seasonal trends change systematically over time, and can also change abrup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irst estimate the principal components of seasonal variation, using a version of principal components analysis adapted to functional data, and sensitive only to effects periodic over one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54380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78487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92468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ompon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tive sizes of spring and summer cycles (5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int size of spring and summer cycles (25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ze of fall cycle (11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otting Component Sc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compute scores at each year for these three principal components, sometimes called empirical orthogonal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the evolution of these scores over the 51 years shows some interesting structural changes in the economics of everyday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eighted sums of basis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need a flexible method for constructing curves to fit the da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begin with a set of basic functional building blocks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φ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t)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alled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basis func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r fitting function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a weighted sum of these: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13716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3355920"/>
          <a:ext cx="4038480" cy="13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3355920"/>
                    <a:ext cx="40384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rap-up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-plane plots are good for inspecting seasonal quasi-harmonic tre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ipal components analysis reveals main components of variation in seasonal tr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component scores shows how trend has evolv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as joint with work with James B. Ramsey, Dept. of Economics, New York University, and is reported i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msay, J. O. and Ramsey, J. B. (2001) Functional data analysis of the dynamics of the monthly index of non‑durable goods production.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Journal of Econometric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107, 327‑34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hase and Amplitude Variation in Montreal Weath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4 years of daily temperatures, 1961-1994 inclu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es are averages of daily maximum and minim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410 observations in tenths of a degree Celsi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ailable for Montreal and 34 other Canadian weather s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07732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know that there are two kinds of variation in these da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mplitude var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day-to-day and year-to-year variation in temperature at events such as the depth of win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hase var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the timing of these events -- the seasons arrive early in some years, and late in oth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arate phase variation from amplitude variation b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egister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eries to its strictly periodic im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imate components of variation due to amplitude and phase vari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mooth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gistration process requires that we smooth the data two way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n unconstrained smooth that removes the day-to-day variation, but leaves longer-term variation unchang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strictly periodic smooth that eliminates all but strictly periodic tr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constrained smoo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w data are represented by a B-spline expansion using 500 basis functions of order 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t about every 25 d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raw data about this smooth, adjusted for degrees of freedom, is 1.52 degrees Celsi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53416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-splines for growth dat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der 4 splines look smooth, but their second derivatives are rou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use order 6 B-splines because we want to differentiate the result at least twic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place a knot at each of the 31 a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otal number of basis functions = order + number of interior knots.  35 in this ca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iodic smoo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s is Fourier, with 9 basis functions judged to be enough to capture most of the strictly periodic trend for a period of one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raw about data about this smooth is 2.18 deg 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re this to 2.07 deg C. for the unconstrained smooth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04920" y="193680"/>
            <a:ext cx="861048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5000"/>
            <a:ext cx="81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the unconstrained B-spline smooth minus the constrained Fourier smooth reveals some striking discrepanc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ocus on Christmas, 1989.  The Ramsay’s spent the holidays in a chalet in the Townships, and awoke to –37 deg C.  No skiing, car dead, maroone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temperature would still be cold in mid-January, but less unusu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53416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gist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unconstrained smooth b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the strictly periodic smooth b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to estimate a nonlinear strictly increasing smooth transformation of tim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(t)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lled a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arping fun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uch that a fitting criterion is minimize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tting criter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16765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tting criterion was the smallest eigenvalue of the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219320" y="2800440"/>
          <a:ext cx="6476760" cy="160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800440"/>
                    <a:ext cx="6476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1219320" y="46483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03480" y="43592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4495680"/>
            <a:ext cx="632448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riterion measures the extent to which a plot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[h(t)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gains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linear, and thus whether the two curves are in ph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warping function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h(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smooth strictly monotone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uch tha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(0) = 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be represented 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95280" y="3124080"/>
          <a:ext cx="4640400" cy="141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124080"/>
                    <a:ext cx="46404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838080" y="5334120"/>
            <a:ext cx="7391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449568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represent unconstrained functio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(v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a B-spline expansion.  Consta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determined by constrai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(T) = 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deformation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u(t)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=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h(t) - 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this allows us to see when the seasons come early (negative deformation) or late (positive deformatio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15328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-winter for 1989-1990 arrived about 25 days ear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xt step is to register the temperature data by computing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*(t) = x[h(t)].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gistered curv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*(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ains only amplitude vari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istration was done by Matlab function registerfd, available by ftp f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go.psych.mcgill.ca/pub/ramsay/FDAfu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sn’t using 35 basis functions to fit 31 observations a problem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.  We will fit each observation exac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ill ignore the fact that the measurement error is typically about 0.5 c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we’ll fix this up later, when we look at roughness penal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83055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mplitude vari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difference between the unconstrained smooth and the strictly periodic smooth is 2.15 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difference between the registered smooth and the period smooth is 1.73 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.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1.7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/2.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.35, the proportion of the variation due to ph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raw data around the registered smooth is 2.13 C, compared with 2.07 C for the unregistered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ut 10% of the total variation is due to ph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 variation is an important part of weather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isticians seldom think about phase variation, and classical time series methods ignore it complet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 variation needs more attention, and registration is an essential t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Unique Aspects of Functional Data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ata are smooth, so we can use derivatives in various w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l equations can play a big ro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ts in functional data occur over different time sc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itself may be an elastic medium, and vary over functional observ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nding out Mo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msay, J. O. and Silverman, B. W. (1997, 2004)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unctional Data Analys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Spring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msay, J. O. and Silverman, B. 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2002)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pplied Functional Data Analys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Sprin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t the FDA website: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psych.mcgill.ca/misc/fda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 in Matlab, R and S-PLUS available at ego.psych.mcgill.ca/pub/ram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12:49:23Z</dcterms:created>
  <dc:creator>J. O. Ramsay</dc:creator>
  <dc:description/>
  <dc:language>en-US</dc:language>
  <cp:lastModifiedBy>Jim Ramsay</cp:lastModifiedBy>
  <dcterms:modified xsi:type="dcterms:W3CDTF">2005-08-09T14:44:35Z</dcterms:modified>
  <cp:revision>16</cp:revision>
  <dc:subject/>
  <dc:title>Human Growt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