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B4F5-BA0D-41B9-94CD-59463AFED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6BA6-9767-4453-8C48-A361E61F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9CC4-13B1-4C7B-954A-BF1AE14AA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DB54-182E-4A9B-9E69-2BFE945AA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A1C9-2278-4B11-83D7-D603611CE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2884-8470-40D3-ADBC-D2A13F22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6A87-4A4F-476D-BDEE-2FE929E1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DB79-3C98-4808-B6CE-5B825ADE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269F-B20F-4BC0-B10C-EE52C9B3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F8CF-EB76-4E47-9A60-C9204E4F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B996-7DB4-449A-B458-3B2E7E89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6406-6093-4339-8887-80089D06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293A-23AD-47C6-BB2B-322F554D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814D-408A-4417-98A3-9583D9B2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9B8E-9694-4D8E-B68D-95F75FF3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6EEA-8EC7-484F-9090-7CCF0758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4D34-E8FB-4366-BF9F-8CEE75DFA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308D-88B5-432E-A777-B71A70AC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4D11-D174-482D-9EFA-8944DBB2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0EA5-77AD-44A1-B180-EF7FCB83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F89B-64BF-40FC-B0ED-BC16E688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7713-310E-49A4-AC9A-E7EDEA33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8571-1E8A-4F3C-9239-A83C43F8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26B8-9216-4A21-B28F-D2F3AEC8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77E7-7717-4C9D-87A2-D4A366E4F6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F454-5098-4331-B5D3-4F823191E4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ADHD Reaction Times:</a:t>
            </a:r>
            <a:br>
              <a:rPr sz="4000"/>
            </a:b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Densities, Mixed Effects, and PC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128680" y="1981080"/>
            <a:ext cx="4884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Are there inter-child differences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94560" y="1700280"/>
            <a:ext cx="2449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Examples of four ADHD childre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Dashed line is group density for ADH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Solid line is individual density for chil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Definite child-to-child variability.  Shouldn’t ignore th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60498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How can we estimate the densities and account for individual differences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ccff"/>
                </a:solidFill>
                <a:latin typeface="Tahoma"/>
              </a:rPr>
              <a:t>Transform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firs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Subtract 120 from each reaction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Initial dead period not helpfu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Logarith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Effects are likely multiplicative, not addi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Z = log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(t-12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692360" y="1989000"/>
            <a:ext cx="5472000" cy="825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Functional Mixed Effects Linear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What is our functional mixed effects model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Build mixed effects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Child i; trial j; group 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ijk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= transformed reaction time density (function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μ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k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= typical performance of all children in group k (function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i|k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= individual performance of child i within group k (function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ijk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= leftover variation in density (function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5843520"/>
            <a:ext cx="3097080" cy="111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ijk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μ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k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i|k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+ U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ij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∑ 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i|k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6659640" cy="61185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76720" y="404640"/>
            <a:ext cx="22669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ADHD have greater variability in residua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ADHD have greater mean residuals (952 vs 645 msec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Modality an artifact of instrume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How can we explore variability across subjects within a group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4316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Goa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explore how densities change from child to chil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Ide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Principal components (</a:t>
            </a:r>
            <a:r>
              <a:rPr b="0" i="1" lang="en-CA" sz="2000" spc="-1" strike="noStrike">
                <a:solidFill>
                  <a:srgbClr val="ffffff"/>
                </a:solidFill>
                <a:latin typeface="Tahoma"/>
              </a:rPr>
              <a:t>harmonics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i="1" lang="en-C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are like empirical basis functions.  Want to expand our densities with these harmonic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Problem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Hard to ensure that the densities are positiv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Solution: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ccff"/>
                </a:solidFill>
                <a:latin typeface="Tahoma"/>
              </a:rPr>
              <a:t>Transformation!  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Explore the derivatives instead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1476360" y="1413000"/>
            <a:ext cx="5761080" cy="825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Functional Principal Components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48320" y="2065320"/>
            <a:ext cx="403848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5ffff"/>
                </a:solidFill>
                <a:latin typeface="Tahoma"/>
              </a:rPr>
              <a:t>What do the harmonics look like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7343640" cy="19814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1280" y="357336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Used weighted fP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minimizes importance of variation when density is smal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Back-transform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to get harmonics in original density sca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Harmonic Interpretation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CA" sz="20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 : More weight on central peak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CA" sz="20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 : More weight on early reaction tim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CA" sz="20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 : Highlights periodic effect from instrumenta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5ffff"/>
                </a:solidFill>
                <a:latin typeface="Tahoma"/>
              </a:rPr>
              <a:t>What have we learned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ransform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he functional object can be indirectly related to the data, such as the probability density fun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Functional Linear Mo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Can add random effe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Functional Principal Components Ana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Can be done on a transformation, such as the log density deriv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ADHD:  Attention Deficit (Hyperactive) Disorde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4963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DHD kids have difficulty in focusing on task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But true ADHD is rarer than is generally believed, and drug treatments are used much too oft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How can we correctly identify ADHD childr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5ffff"/>
                </a:solidFill>
                <a:latin typeface="Tahoma"/>
              </a:rPr>
              <a:t>Reaction Time Experi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17 ADHD child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16 age-matched contro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Warning of cue” appears on computer scre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Delay of about 10 second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Cue actually appea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Measure the time it takes to react to the cu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Repeat and get about 70 reaction times for each chil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Longer reaction times for ADHD than for controls.  But what do they look like?  How to quantify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How do reaction times differ between ADHD and controls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105520" y="1989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ADHD child has many reaction times beyond 1 sec.  Not so for contro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How can we represent histogram as a smooth density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What are differences in shape, mean, mode, etc., between group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How can we account for child-to-child differences when comparing the group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4537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How can we represent the histogram as a smooth curve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Simple answer:  Find the probability density function using standard metho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roblem with that:  Standard textbook densities don’t capture characteristics li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Initial l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Extreme peak immediately after l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Long right tail with many outli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New answer:  Use flexible modeling of density functions to create a functional data ob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How can we create a functional density object from a histogram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78544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Use tools from befor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ccff"/>
                </a:solidFill>
                <a:latin typeface="Tahoma"/>
              </a:rPr>
              <a:t>Basis expansion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:  linear combination of spl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ccff"/>
                </a:solidFill>
                <a:latin typeface="Tahoma"/>
              </a:rPr>
              <a:t>Roughness Penalty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:  making explicit the competing go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Basis expansion wi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34 B-splines of order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Equally spaced kno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Competing goals 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Fitting density curve exactly to histogr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Wanting curve to be close to a normal dens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What about the constraints of a probability density function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Constraint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P(t) &gt; 0 over interval of interes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Area under the curve is 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New tool:  </a:t>
            </a:r>
            <a:r>
              <a:rPr b="0" lang="en-CA" sz="2800" spc="-1" strike="noStrike">
                <a:solidFill>
                  <a:srgbClr val="00ccff"/>
                </a:solidFill>
                <a:latin typeface="Tahoma"/>
              </a:rPr>
              <a:t>Transformation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For any function W(t), can build a density func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(t) = C exp{W(t)}, for C = appropriate function of 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ransforms estimation problem from constrained p(t) to unconstrained W(t)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Hey, the original data aren’t really functional, are they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Idea again:  </a:t>
            </a:r>
            <a:r>
              <a:rPr b="0" lang="en-CA" sz="3200" spc="-1" strike="noStrike">
                <a:solidFill>
                  <a:srgbClr val="00ccff"/>
                </a:solidFill>
                <a:latin typeface="Tahoma"/>
              </a:rPr>
              <a:t>Transformation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e functional object is really </a:t>
            </a: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indirectly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related to the dat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ata: reaction times t – nonfunct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What we want: reaction time densities p(t) – funct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Related throug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332000" y="5445000"/>
          <a:ext cx="5545080" cy="77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5445000"/>
                    <a:ext cx="554508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What do the group densities look like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508360" y="1557000"/>
            <a:ext cx="3384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efinite shift in mode between group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Bimodality, or even trimodalit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DHD has large shoulder and long tai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But what about individual differences in childr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51134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12:03:31Z</dcterms:created>
  <dc:creator>nuzzo</dc:creator>
  <dc:description/>
  <dc:language>en-US</dc:language>
  <cp:lastModifiedBy>J. O. Ramsay</cp:lastModifiedBy>
  <dcterms:modified xsi:type="dcterms:W3CDTF">2004-02-23T18:27:43Z</dcterms:modified>
  <cp:revision>22</cp:revision>
  <dc:subject/>
  <dc:title>Reaction-Time Distributions</dc:title>
</cp:coreProperties>
</file>