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8.wmf" ContentType="image/x-wmf"/>
  <Override PartName="/ppt/media/image1.jpeg" ContentType="image/jpeg"/>
  <Override PartName="/ppt/media/image10.png" ContentType="image/png"/>
  <Override PartName="/ppt/media/image2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237-9104-44F0-B0C3-B4139580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B06-D7DB-4A7E-A075-7367645E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982-88B0-453A-B772-0DC4F761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693-BC81-4184-9CB1-421529B1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B047-D7E1-4A5B-A468-B2FB323D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C85A-AEC6-43FA-9703-75875FA4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EC96-66C6-49DB-85B1-7B8D7E5B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3089-0635-4BF0-A241-367D9175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B129-F9B1-4413-90C4-A63ED29E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68A7-A327-47DC-AEE9-F87DEC53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8B7A-2F27-4997-9717-547D0D02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F2B-688A-4569-9429-06D317E9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CDD1-52FF-49AE-8639-7667D940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299B-E83C-43CE-84FB-F0C143E9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71C6-C35F-4F6D-ADDB-6D4AD082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2B3F-9155-4AB4-97E0-81EAB585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FB39-F91B-4C09-B320-40598B08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3A4-6324-492A-B72E-DAF2695E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BF6C-8945-4DE2-B73F-6D567310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0AA-1039-461E-99E7-76BBC3F4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429-F904-4188-B9FE-E1BA0BEF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CCE6-5A53-4A6B-9243-68787FED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5FE0-C81C-4875-A77B-A61CFB13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429-158A-4B14-BA7A-2576DECF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A5DA-D9B1-43A0-8FA9-D413EBC730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1DC1-C220-4B28-9A98-5EDEA5A516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andwriting: </a:t>
            </a:r>
            <a:br>
              <a:rPr sz="4000"/>
            </a:b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Registration and Differential Equ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5333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Registered curves for handwriting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andwriting data have both X and Y direc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Register </a:t>
            </a:r>
            <a:r>
              <a:rPr b="0" i="1" lang="en-CA" sz="2400" spc="-1" strike="noStrike">
                <a:solidFill>
                  <a:srgbClr val="ffffff"/>
                </a:solidFill>
                <a:latin typeface="Tahoma"/>
              </a:rPr>
              <a:t>tangential acceleration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TA(t) = [X’’(t)</a:t>
            </a:r>
            <a:r>
              <a:rPr b="0" lang="en-CA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+ Y’’(t)</a:t>
            </a:r>
            <a:r>
              <a:rPr b="0" lang="en-CA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en-CA" sz="2400" spc="-1" strike="noStrike" baseline="30000">
                <a:solidFill>
                  <a:srgbClr val="ffffff"/>
                </a:solidFill>
                <a:latin typeface="Tahoma"/>
              </a:rPr>
              <a:t>1/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eaks more cleanly aligned after registr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3600360" cy="2776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84360" y="4081320"/>
            <a:ext cx="360036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Can we imagine a differential equation for handwriting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89647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First look at the X-coordinate – the other two are analog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elates the physics of the pen movement, written in a standard differential equation templa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hysical characteristic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CA" sz="20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(t) = </a:t>
            </a:r>
            <a:r>
              <a:rPr b="0" i="1" lang="en-CA" sz="2000" spc="-1" strike="noStrike">
                <a:solidFill>
                  <a:srgbClr val="ffffff"/>
                </a:solidFill>
                <a:latin typeface="Tahoma"/>
              </a:rPr>
              <a:t>jerk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of i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p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CA" sz="20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(t) = acceleration of i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p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Dx</a:t>
            </a:r>
            <a:r>
              <a:rPr b="0" lang="en-CA" sz="20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(t) = velocity of i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p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unctional coefficients, which describe relationships among physical characteristic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CA" sz="20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(t) = time-varying intercep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CA" sz="2000" spc="-1" strike="noStrike" baseline="-25000">
                <a:solidFill>
                  <a:srgbClr val="ffffff"/>
                </a:solidFill>
                <a:latin typeface="Tahoma"/>
              </a:rPr>
              <a:t>x1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(t) = time-varying coefficient relating velocity to jer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CA" sz="2000" spc="-1" strike="noStrike" baseline="-25000">
                <a:solidFill>
                  <a:srgbClr val="ffffff"/>
                </a:solidFill>
                <a:latin typeface="Tahoma"/>
              </a:rPr>
              <a:t>x2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(t) = time-varying coefficient relating acceleration to jer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1700280"/>
            <a:ext cx="395928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Linear Differential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nalogy to linear reg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Jerk is respon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cceleration and velocity are predicto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The difference is that response and predictors are all estimated from same da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stimate coefficients through Principal Differential Analysis (P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907920"/>
          <a:ext cx="8353440" cy="52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Principal Differential Analy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stimate coefficient functions a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(t), b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</a:rPr>
              <a:t>x1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(t), and b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</a:rPr>
              <a:t>x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(t) in the linear differential eq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irst find good estimates of the derivatives D</a:t>
            </a:r>
            <a:r>
              <a:rPr b="0" lang="en-CA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x and D</a:t>
            </a:r>
            <a:r>
              <a:rPr b="0" lang="en-CA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imilar to linear regression:  Find coefficients that minim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ow do we do thi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476360" y="2924280"/>
          <a:ext cx="5905440" cy="47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924280"/>
                    <a:ext cx="590544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916360" y="4653000"/>
          <a:ext cx="5903640" cy="60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4653000"/>
                    <a:ext cx="59036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How do we do PD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Use regularization again to balance goa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Want the estimated weight functions to be close to the “true” weight fun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Want smooth weight fun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Minim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Lambda is smoothing para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Lambda = 0:  weight functions r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Lambda </a:t>
            </a:r>
            <a:r>
              <a:rPr b="0" lang="en-CA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infinity: weight functions go to 0 (differential operator no different than mth derivat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987640" y="3573360"/>
          <a:ext cx="4038480" cy="4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3573360"/>
                    <a:ext cx="4038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Estimated coefficient fun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95640" y="1980720"/>
            <a:ext cx="30970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irst coefficient func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Average value 2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Horizontal oscillation once every .2 seco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econd coefficient func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Average value around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Exponential growth or decay (none on average her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5040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Checking adequacy of fi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48000" y="1981080"/>
            <a:ext cx="3995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esidual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mall relative to third derivat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oncentrated around z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CA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goodness of fit (proportion of variability explained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X-coordinate: 0.99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Y-coordinate: 0.99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Z-coordinate: 0.99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464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Can we use this differential equation to identify writer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Two writers: JR and C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20 replications eac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Estimate linear differential equation for each writ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pply each estimated equation to self and to ot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Regression analogy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Build an equation on one dataset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predict the responses for new dataset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compare fitted values to actual values (residuals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JR to J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JR to C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CC to J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CC to C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66880" y="380880"/>
            <a:ext cx="7408800" cy="5715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916360" y="6381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Residuals for x coordi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62728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Residuals for Y coordi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66880" y="380880"/>
            <a:ext cx="7408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84720" y="333360"/>
            <a:ext cx="3059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rinted the letters “fda” by hand 20 ti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Optotrak system recorded positions of pen, 200 times per seco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X (left to righ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Y (front to bac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Z (up and down, verticall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There are different rates of printing, even for same pers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5761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2728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Residuals for Z coordi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66880" y="380880"/>
            <a:ext cx="7408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What have we learned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ontinuous time regis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ifferential 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unctional data in three dimen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y study time records of handwriting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raud detection:  handwriting is pers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e usually only see static images – but what about our time-signature?  Are our writing dynamics uniqu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can we prepare the data for analysi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roblem: Timing of letters is different for each replic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Hand times” are different than “clock time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ccff"/>
                </a:solidFill>
                <a:latin typeface="Tahoma"/>
              </a:rPr>
              <a:t>Amplitude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differences: having to do with shap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ccff"/>
                </a:solidFill>
                <a:latin typeface="Tahoma"/>
              </a:rPr>
              <a:t>Phase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differences: having to do with tim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Both are important components of functional dat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ow can we transform (</a:t>
            </a:r>
            <a:r>
              <a:rPr b="0" i="1" lang="en-CA" sz="2400" spc="-1" strike="noStrike">
                <a:solidFill>
                  <a:srgbClr val="ffffff"/>
                </a:solidFill>
                <a:latin typeface="Tahoma"/>
              </a:rPr>
              <a:t>warp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 the clock time so that we’re left with only amplitude differenc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3959280" cy="270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3960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3280" y="380520"/>
            <a:ext cx="4032360" cy="20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does a warping function look lik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64000" y="2509920"/>
            <a:ext cx="33847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arget function is sin(4pit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ndividual function is running is fast: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o time-warping function 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4032360" cy="3110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39640" y="3747960"/>
            <a:ext cx="4032360" cy="31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5867280" y="4797360"/>
          <a:ext cx="1513080" cy="55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4797360"/>
                    <a:ext cx="151308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7596360" y="5661000"/>
          <a:ext cx="1125360" cy="66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96360" y="5661000"/>
                    <a:ext cx="112536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’s the process to align our data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3068280"/>
            <a:ext cx="8497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dea: Rescale time with a 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warping function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o do this, we need a “target” cur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an use a gold-standard curve, or use a mean curve, or iter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ime-warping function maps “clock time” to “hand tim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2133720"/>
            <a:ext cx="417492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ontinuous-Time Reg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First Proble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: Need curves to fit in same interv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ach curve </a:t>
            </a:r>
            <a:r>
              <a:rPr b="0" i="1" lang="en-CA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 lasts over interval [0, T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ant to rescale each curve to fit a target interval [0, T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olution: Find a time-warping function 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 such t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0) = 0 (starts at same ti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T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 = T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(ends at same ti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t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 &gt; h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t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 iff t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&gt; t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(events occur in same ord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Second Proble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: Want features of the curves to line up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ant the curves to differ only in amplitu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olution: Find a time-warping function 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 that minimizes a “misalignment” criter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Good one is M(h) = smallest eigenvalue of [matrix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hen M(h) is close to zero, the registered curve values plot against the target curve values as a straight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Can we register transformations of the curves, too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Yes!  It’s often better to register the derivatives of the curves than the curves themsel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More distinctive features available to alig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ometimes closer to the process of interes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8:54:57Z</dcterms:created>
  <dc:creator>nuzzo</dc:creator>
  <dc:description/>
  <dc:language>en-US</dc:language>
  <cp:lastModifiedBy>ramsay</cp:lastModifiedBy>
  <dcterms:modified xsi:type="dcterms:W3CDTF">2004-02-28T01:47:16Z</dcterms:modified>
  <cp:revision>34</cp:revision>
  <dc:subject/>
  <dc:title>Handwriting: Registration </dc:title>
</cp:coreProperties>
</file>