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8F0-4372-496D-8D1D-C2AE3B9C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832-45AB-4386-A21B-D65BDFC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D2B-1F4F-4AEC-A55A-0213C0B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B5F-CA24-4A46-9EDD-E5AA29D1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3D6-C37C-4D8C-B941-629DFDB9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202-38DF-43A6-88EA-11CC743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2A3-C3BD-4C5A-ADE5-AF04700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343-4437-443B-ACF5-405310E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6C3D-1BEB-423D-84DB-1ABCF66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97A-2556-4F24-A7D5-18692FDC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C86-45A4-4ADA-949D-79DAF51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C43-057F-42AA-90B1-0A71E28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3E7-17FB-4EBD-AB18-EDBDFD6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0EA-3CF1-45A4-AAB3-B668F57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224D-11DD-4739-9BC6-C566EC01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EA0-27FE-4ADD-BB69-44D3E46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00C-B083-4D3D-9E5A-00BFB0DC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B7E-539B-4EFE-A3E7-A5E5077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9A7-E435-4C34-9C3F-1EF58C9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4E9-FC23-40DD-9BEB-1497F06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C5A-624A-40DA-9E4D-4CD3D77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9D2-F0F4-4B86-9B02-B85059E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281-3154-401E-AA49-8AEB414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ACD-53D9-4F78-893B-5168375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9DF2-C6D5-42E8-BC0F-D6BB49307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3C8-A866-43AC-B560-1D15ADF21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m Ramsay and Regina Nuzz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800000">
            <a:off x="820800" y="4129560"/>
            <a:ext cx="74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ews expressed here are the author’s and do not always reflect the generally accepted views of many practitioners in the field of Psychometrics.” PH,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 ETS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sychometric Fellowship in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 great sabbatical year in 19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any sets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o many great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your hospitality to Canada’s g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with a standard spline smoothing spline to get a preliminary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the noisy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do a principal differential analysis to get a trial estimate of the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defines how we smooth the data, so we use L-spline smoothing to re-estim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s steps 2 and 3 until convergen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Learned at 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a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nearly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ing your way around these buildings is hard … see “brainergy” l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feedback loops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with ETS would be fun, to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to work with thes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kind of psychometrics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Didn’t Learn at Princ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love the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go beyond snapshot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time as a co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y Problems with the Latent Trai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widely interpreted as covari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tation that we use, like P(x=1|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, is usually misinterpre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an unobserved covariate … it is not observable, peri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even a variable in the usual sense, since it can be transformed by any strictly increasing smooth function without loss of mea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82680" y="704880"/>
            <a:ext cx="6578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tent trait says that high dimensional data can be represented in a low dimensional spa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, that the probabilities of get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ems correct fall along a spac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ossi, Wang &amp; Ramsay (2002) JEBS for some applications of differential geometry to this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J. O. Ramsay</cp:lastModifiedBy>
  <dcterms:modified xsi:type="dcterms:W3CDTF">2003-02-17T20:28:47Z</dcterms:modified>
  <cp:revision>10</cp:revision>
  <dc:subject/>
  <dc:title>Psychometrics, Dynamics, and  Functional Data Analysis</dc:title>
</cp:coreProperties>
</file>