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239-A7F4-4FBE-A93A-2E53A9CE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715-560A-4796-ABC4-3A9D0671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4F3-4F2A-489D-97CE-095E29BA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CFF-770D-4B64-A880-855067F6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B3D3-7FD5-4130-B8BF-618F4FB6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431F-9001-4B9D-9F7F-D2581B4F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CD6B-E70F-43C0-9E21-DA74B0EF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D6AD-BD2A-4976-A6C3-9ED4049E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3298-CD0B-4C85-94C7-09986575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3F4F-F3E6-455A-8796-34563308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5D02-DFCC-47E1-8DB8-DF85B4D8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9AB-99C0-45EC-90C0-EC86B294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43C8-7874-4441-B1F3-9A4C557D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6130-FE4A-40F1-BB79-C9C4AC59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87D4-9FC2-481C-A2CF-A84B31E8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5A66-F115-4D18-9C93-4283DDB2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71A8-F207-4C9A-8D86-2280D241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E74-4A50-4F23-8D56-6AAD6D52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C1E-2D11-48ED-A4C4-BB652AD1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C09-E81A-411B-AA07-D3FE930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3F0-AB42-48E5-A209-47D34BF6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4CF-7C63-4B98-BF5A-8E2C5E89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75A-E83C-4D0E-93C8-28212E11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476-21CC-4019-993F-83F5295B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6BE6-7785-405B-9AEB-B2616FD400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7329-AEC8-4CBD-A9BD-9879AF4DB2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nctional linear mode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dicting log annual precipitation from the temperature profi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determine how much precipitation a weather station will receive from the shape of the temperature profi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ughness penalty should we use to smooth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penalize the siz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2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π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/365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+D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harmonic accele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 This smooths towards a shifted sinusoi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moothed regression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recipitation is determined by: (1) spring temperature, and (2) by the contrast between late summer and fall temperatur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fit to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274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it is good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see  clusters of hi-precip. marine stations, and of continential sta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ctic stations have the least precip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76720" y="186696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bout both the response and covariate being functiona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ovariat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s,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we have a lot of possibilities. We can predic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the shap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s,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especially for periodic da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= 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oncurrent influence only, or for some dela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= t –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t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feed forward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regio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Ω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pending 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dicting the precipitation profile from the temperature profi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del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2743200"/>
          <a:ext cx="769644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743200"/>
                    <a:ext cx="76964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33520" y="43434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we have to smooth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s,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respect to both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egression fun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ncurrent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ime, we’ll only use temperature at tim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predict precipitation at tim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43000" y="3352680"/>
          <a:ext cx="6553080" cy="84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352680"/>
                    <a:ext cx="65530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types of linear model to consid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is a function; covariates are multivari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is scalar or multivariate; covariates are funct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response and covariates are funct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egression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fluence of temperature is nearly constant over the y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see how the two fits comp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historical linear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functions are not periodic, it may not be reasonable to assume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influenc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&gt; 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historical linear model is described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pplied 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in talk at this conference by Nicole Malf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concurrent model and differential equ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important extension of the concurrent model is to the fitting of data by a differential equation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mple exampl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4191120"/>
          <a:ext cx="7543800" cy="79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191120"/>
                    <a:ext cx="754380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unctional response with multivariate covariat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: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, i=1,…,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riate: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,…,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3900600"/>
          <a:ext cx="678168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900600"/>
                    <a:ext cx="6781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es daily temperature depend on climate zon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 Canadian temperature stations, divided into four zones: Atlantic, Pacific, Continental, and Arct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is 30-year average daily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ctional one-way analysis of variance, set up to have a main effect, and zone effects summing to zer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alyzing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straightforwar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N-vector of response functions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5-vector of regression functions (main effect + zone effects), then the LS estimat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 = (X’X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’ Y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and zone effect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sessing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probably want to assess effects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pointwi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or what time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effect substanti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an be done using F-ratios conditional 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ointwise confidence band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ultiple comparison problem is especially challenging her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sponse is scalar, Covariate is a single functional variab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, i=1,…,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riate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19320" y="3657600"/>
          <a:ext cx="627696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657600"/>
                    <a:ext cx="62769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 have to smooth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chnical and conceptual issues become much more interesting when the covariate is funct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unctional covariate is effectively an infinite-dimensional predictor for a finite set of N responses.  We can fit the data exactl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ing becomes essential; without it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ll be unacceptably rough, and we won’t learn anything useful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3:06:33Z</dcterms:created>
  <dc:creator>J. O. Ramsay</dc:creator>
  <dc:description/>
  <dc:language>en-US</dc:language>
  <cp:lastModifiedBy>ramsay</cp:lastModifiedBy>
  <dcterms:modified xsi:type="dcterms:W3CDTF">2003-06-30T19:11:31Z</dcterms:modified>
  <cp:revision>6</cp:revision>
  <dc:subject/>
  <dc:title>Functional linear models</dc:title>
</cp:coreProperties>
</file>