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0BF-C10F-4EC8-B768-D49D7BC1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8CD-5DFB-4512-80BE-63E9FE3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804-50EE-4181-B21F-8328BDFE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BB2-2E2D-42E7-B64E-646BA465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33B4-DF1C-43FA-BD9C-D9412BB9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0F9B-E0E4-4E15-9620-50B73CB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15C7-9F24-4B21-93C7-3D2B6554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B041-6C2A-4E00-8CA3-985525E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6EC4-B919-4B1A-A63C-2AD1FA6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9733-8B73-4EDA-B7E3-92AB2D49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A16-6EE4-4DA4-BEE4-C0895FD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4FA-FB8E-4C85-B5F2-5BC19CC9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D851-6123-472A-A273-D5D89FB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9BD7-7521-45C2-A69E-D447C82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DE05-1377-43A3-A82A-7A7C95C7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76DC-9C4A-4EDF-AFD5-05E04363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6278-C73A-4A23-A7F9-B5E719D2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940-D1C5-4AAD-A8FE-9A5C0F9D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84F-D483-4035-9E81-46BC9B35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E67-67DA-45D8-A788-3084305E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B3B-DE66-4166-B1DF-6F48FF4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AA6-A1CE-451F-8298-5139D11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433-1D13-4ED9-82D2-7750F1F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824-49E7-4CDA-87A8-F6D8830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C788-A9BB-47F6-9B83-91484B730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296-4F77-40F5-85CE-5D0CAC301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om Data to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098800" y="4038480"/>
          <a:ext cx="525132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8800" y="4038480"/>
                    <a:ext cx="52513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fferential equations and time sc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re important where there are events at different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der of the equation plus one corresponds to the number of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rst-order equation can model events on two time scales: long-term, modeled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short-term, modeled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andwriting has four time sc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spatial position needs onl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scale is many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all left-to-right trend require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 with a time scale a second or l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ps, loops, strokes requi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 with a time scale of 100 msec or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ent effects such from pen contacting paper requi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a scale of 10 mse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can model data on functions or functional input/output systems, we will have a modeling tool that greatly extends the power and scope of existing nonparametric curve-fitting techniqu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odels will be dynamic in the sense of also modeling the rate of change in the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also get better estimates of functional parameters and their derivativ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input/output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begin by looking at a first order DIFE for a single output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a single input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IS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our goal is the linking of multiple inputs to multiple outputs (MIMO) by linear or nonlinear systems of arbitrary orde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90720" y="1066680"/>
          <a:ext cx="689616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68961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19840" y="2217600"/>
            <a:ext cx="83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ften called th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forcing function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coefficient fun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define the D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stem is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se coeffic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, and in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8160" y="2365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simple case, an analytic solution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09520" y="1371600"/>
          <a:ext cx="738504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9520" y="1371600"/>
                    <a:ext cx="7385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83808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, in most situations invol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it is necessary to use numeri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s to find the solu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36232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62080" y="2895480"/>
          <a:ext cx="2855880" cy="103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62080" y="2895480"/>
                    <a:ext cx="28558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constant coefficient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e more clearly what happens wh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efficient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onstant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function stepping from 0 to 1 at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4800600"/>
          <a:ext cx="5715000" cy="14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800600"/>
                    <a:ext cx="57150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2666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g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ant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respons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system to a change in inpu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5181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How can we estimate a DIFE from noisy data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DIFE as a linear differential operat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express the first order DIFE as a linear differential operat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200400"/>
          <a:ext cx="75214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7521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52800" y="4267080"/>
            <a:ext cx="52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generally, dropping “(t)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4876920"/>
          <a:ext cx="6324480" cy="136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876920"/>
                    <a:ext cx="63244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the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are powerful tools for model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new methods for estimating differential equations directly from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xamples are offered, drawn from chemical engineering and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moothing data with the operator 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know the differential equation, then the operat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l-GR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α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define a data smoother.  The penalized least squares fitting criterion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3463920"/>
          <a:ext cx="6791400" cy="11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463920"/>
                    <a:ext cx="67914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43520" y="4976640"/>
            <a:ext cx="895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rg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, the more the fit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forced to be a solution of the differential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i="1" lang="el-GR" sz="1800" spc="-1" strike="noStrike">
                <a:solidFill>
                  <a:srgbClr val="ffffff"/>
                </a:solidFill>
                <a:latin typeface="Tahoma"/>
              </a:rPr>
              <a:t>α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mooth val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expanded in terms of a s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s function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rix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ains the values of these functions at time point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n the vector fitting the data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4237200"/>
          <a:ext cx="7120080" cy="13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237200"/>
                    <a:ext cx="7120080" cy="13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estimate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l-GR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α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function of weight coefficie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functions of parameter vector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respectively, then we can optimize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rofiled error sum of squar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4206960"/>
          <a:ext cx="4952880" cy="10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206960"/>
                    <a:ext cx="49528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38080" y="541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respect to parameter vector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ding constra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simple matter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ain some coefficient functions to be zero or a cons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 others to be smooth, employing specific linear differential operators to smooth them towards specific target sp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d more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 approach is easily generaliz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nd differential operators of any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inputs u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) and outputs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licated functional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linear DIFE’s and opera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choosing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ing the smoothing paramet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lways a delicate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ight value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be rather large if the data can be well-modeled by a low-order DIFE, but not so large as to fail to smooth observational noise and small additional functional vari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ized cross-validation seems to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see how well this method works where we know what we’re estim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harmonic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=1,…,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=1,…,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l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590920"/>
          <a:ext cx="731520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590920"/>
                    <a:ext cx="7315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48040" y="3386160"/>
            <a:ext cx="837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i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’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’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(0,1)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 = 0(0.01)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unctional variation satisfies the differenti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4648320"/>
          <a:ext cx="51051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648320"/>
                    <a:ext cx="5105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54080" y="5367240"/>
            <a:ext cx="731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that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=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(6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55.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81120" y="876240"/>
            <a:ext cx="5981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imulated data wit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 = 2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 bases fo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,…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 =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 results are fo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1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RIMSE’s for derivatives 0, 1 and 2 are 0.32, 9.3 and 315.6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imated, best results are for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RIMSE’s are 0.18, 2.8, and 49.3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ing precision ratios of 1.8, 3.3 and 6.4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estimated as 353.6 whereas the true value was 355.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0.1,  with true value 0.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fferential Equations as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E’S make explicit the relation between one or more derivatives and the function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xample is the harmonic motion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5680" y="3124080"/>
          <a:ext cx="403884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3124080"/>
                    <a:ext cx="40388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543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ddition to better curve estimates and much better derivative estimates, note that the derivative RMSE’s do not go wild at the end po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because the DIFE ties the derivatives to the function values, and the function values are tamed by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ecaying harmonic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cond order equation defining harmonic behavior with decay, forced by a step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= 4.04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= 0.4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= -2.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 = 0, t &lt; 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u(t) = 1, t ≥ 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ise with std. dev. 0.2 added to 100 randomly generated solution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752480"/>
          <a:ext cx="8229600" cy="4343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n Estim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d. Err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.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65040" y="228600"/>
            <a:ext cx="83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from 100 samples using minimum generalized cross-validation to choose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otone 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nstrained functions can be expressed as DIFE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mooth strictly monotone function can be expressed as the second order D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48320" y="2514600"/>
          <a:ext cx="403848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514600"/>
                    <a:ext cx="40384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onotonically smooth data by estimating the second order DIFE direc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onstrai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give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ough flexibility to smooth the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ollowing artificial example, the smoothing parameter was chosen by generalized cross-validation.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expanded in terms of 13 B-sp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ulated Chemical Reac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is a textbook model for the input and output concentrations in a non-isothermal continuously-stirred tank rea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 measurements are (1) input concentra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, (2) flow r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(3) temperatu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 is concentration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ou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Differential Equa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havior of a derivative is often of more interest than the function itself, especially over short and medium time peri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often counts is how rapidly a system responds rather than its level of respo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ocity and acceleration can reflect energy exchange within a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ll equations lik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 = 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 = m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ifferential Eq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43000" y="1828800"/>
          <a:ext cx="6477120" cy="7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64771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362320" y="3581280"/>
          <a:ext cx="3581280" cy="76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581280"/>
                    <a:ext cx="35812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09480" y="4724280"/>
            <a:ext cx="8153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parameters to be estimat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840" y="282744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ss control experi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studying systems like these like to carry out experiments in which inputs are stepped up or down at random ti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infer the dynamics of the process from the impacts of these steps on the output(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olved this differential equation for known values of the two unknown parameter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n added zero mean Gaussian error with a standard deviation of 0.0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estimat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8.11 as opposed to the data-generating value of 8.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estimate o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22.44 as opposed to the data-generating value of 23.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Real-Data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low in an oil refinery distillation colum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gle input is “reflux flow” and the output is “tray 47”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194 sampling po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 B-spline basis functions were used to fit the output, and a step function was used to model th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066680" y="512640"/>
            <a:ext cx="6858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cientists often provide theory to biologists and engineers in the form of DIFE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fields such as pharmacokinetics and industrial process control routinely use DIFE’s as models, especially for input/output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re especially useful when feedback systems must be developed to control the behavior of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for the refinery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some experimentation with first and second order models, and with constant and varying coefficient models, the clear conclusion seems to be the constant coefficient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038480"/>
          <a:ext cx="5715000" cy="65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038480"/>
                    <a:ext cx="5715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90720" y="449280"/>
            <a:ext cx="70866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estimate differential equations directly from noisy data with little bias and good preci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gives us a lot more modeling power, especially for fitting input/output functional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s of derivatives can be much better, relative to smoothing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functions, such as monotone, can be fit by estimating the DIFE that defines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lution to 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 order linear DIFE is 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dimensional function space, and thus the equation can model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vari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replications as well as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aver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of DIFE’s are important models for processes mutually influencing each other, such as treatments and symptoms, predator and prey,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require that derivatives are smooth, since they link the behavior of derivatives to that of the function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 simple nonlinear differential equations can imply function characteristics that would be impossible to model in any other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össler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nearly linear system exhibits chaotic behavior that would be virtually impossible to model without using a DIF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52480" y="3809880"/>
          <a:ext cx="4876920" cy="213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809880"/>
                    <a:ext cx="4876920" cy="21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ochastic DIFE’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introduce stochastic elements into DIFE’s in many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coefficient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forcing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initial, boundary, and other constra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chastic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7:38:53Z</dcterms:created>
  <dc:creator>ramsay</dc:creator>
  <dc:description/>
  <dc:language>en-US</dc:language>
  <cp:lastModifiedBy>ramsay</cp:lastModifiedBy>
  <dcterms:modified xsi:type="dcterms:W3CDTF">2004-02-28T02:13:33Z</dcterms:modified>
  <cp:revision>37</cp:revision>
  <dc:subject/>
  <dc:title>From Data to Differential Equ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