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3CA-7B78-4891-9EA8-26B4D361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EDF-7593-4F0B-AF63-38B5EA88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44E-8439-4549-BA35-A4D40275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703-A701-4C32-8CE6-8F68E9BD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EC3B-7FA4-4468-9FFC-A16A5C24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218A-0382-4447-B299-29350C24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B12A-0735-4696-BD87-259E96AC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2289-4002-4A4F-A4D4-D119C6F1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2533-BD4E-408A-AE61-856C1890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B0F6-7859-4636-803C-78471D72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C96C-CDFF-4F1E-B82B-5D9E4A57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293-4C0B-4A2C-B3E6-86DBB2B3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92A9-FA92-4FCF-A182-D772E230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03BF-7679-4AD6-85DD-03AEA73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A696-57C2-4C1B-8E01-2BC4FD7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0D7D-DB72-4FB0-9973-4E6B731F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A37D-82BF-4A6B-8522-0FCA4808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26E-C2A5-49E1-9441-12B7AF5E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25B-7205-4AFB-B408-C9988461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9F2-C87E-4959-BBC6-F6683D75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579-B920-4C07-93B7-E957C84E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9BA-C106-4303-A836-ACE1F30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4B3-1B9D-4F76-AA5E-F27D0E5B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70E-2899-4DC5-ADD9-B1BB037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2E47-9A76-42E3-AEC9-6CEB0BF2C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44CF-C90C-45FB-BEE6-E40F6AE8C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Methods for Testing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log-odds transformation of a three-parameter logistic item response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three-dimensional model for a smooth log-odds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2133720"/>
          <a:ext cx="78487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784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85800" y="350532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3640" y="3765600"/>
            <a:ext cx="794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g(e </a:t>
            </a:r>
            <a:r>
              <a:rPr b="0" i="1" lang="el-GR" sz="2800" spc="-1" strike="noStrike" baseline="30000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+1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s the desired behavior at the extrem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ther two terms add vertical shift and tilt 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mparing the 3D model and the 3PL log-odds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-spline expansions for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W(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θ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n fact, we will actually estimate our log-odds functions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erms of a set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B-spline basis functions, whi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ing these expansions towards these simpler three-dimensional mod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 maximum marginal likelihood estimation, using the EM algorithm to maxim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2743200"/>
          <a:ext cx="7772400" cy="126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743200"/>
                    <a:ext cx="777240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17680" y="3962520"/>
            <a:ext cx="81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g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is a prior density on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ften take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the standard 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imization is with respect to the nK coeffic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ng the B-spline expansions of the log-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smoothnes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defined smoothness here in a less orthodox fashion; It isn’t defined only in terms of the second derivativ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ead, we define smooth in terms of the size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4419720"/>
          <a:ext cx="8001000" cy="144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419720"/>
                    <a:ext cx="80010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you come up with thi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conforms exactly to the three-dimensional smooth model, the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=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ther words, 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5333760" cy="69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4419720"/>
            <a:ext cx="8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057400" y="4800600"/>
          <a:ext cx="41911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800600"/>
                    <a:ext cx="41911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strategy is to define a low-dimensional family of prototype functions that capture what we mean by “smooth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we represent this family by a linear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differential equation defines a measure of “roughness”, which we penali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we penalize this kind of roughness, the more we force the fitted functions to be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general, if we begin with a linear model of dimens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e can find a linear differential equation of orde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ch that all versions of this model will satisf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=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 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m-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-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ome choice of coefficient function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hange the equation to a roughness penalty by converting it to operator fo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…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m-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-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 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=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oughness-penal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133720" y="2496960"/>
          <a:ext cx="4572000" cy="7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496960"/>
                    <a:ext cx="45720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85800" y="365760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the departure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is smooth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pers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= 1,…,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s to each item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 = 1,…,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akes a binary response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ere 0 indicates “wrong” and 1 indicates “right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estimate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00ccff"/>
                </a:solidFill>
                <a:latin typeface="Tahoma"/>
              </a:rPr>
              <a:t>a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the probability of pers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etting item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oughness-penalized log marginal likelihoo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, we actually maxim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057400" y="3359160"/>
          <a:ext cx="403848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359160"/>
                    <a:ext cx="4038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94480" y="4400640"/>
            <a:ext cx="807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paramet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ols the amoun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ness in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;  the larger it is,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these will look like the three-dimens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i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examp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three estimates of the item response functions for items 3, 4, 29, and 96 for an introductory psychology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st had 100 items, and was given to 379 studen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defined by an expansion in terms of 13 B-spline basis func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=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=0.0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=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es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θ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fallen into the habit of call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“latent trait score”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ually, it is the value of a function that is chosen more or less arbitrarily to map position along the response manif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ssumption of a standard normal distribution is pure conven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hoose other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charting functions would be more usefu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choices of charting functions are especially interesting, and none are “latent” in any s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leads to interesting diagnostic statistics and graphic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arc length char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 length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measures the Euclidean distance traveled along the manifold from its origin at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 given positio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3657600"/>
          <a:ext cx="609588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57600"/>
                    <a:ext cx="60958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em discrimination in arc length metric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useful property of arc length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28800" y="2743200"/>
          <a:ext cx="4038480" cy="14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743200"/>
                    <a:ext cx="4038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78560" y="4095720"/>
            <a:ext cx="840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squared item discrimination is a propor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st discrimination, and therefore has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ar frame of refer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cted score char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ing that expected score is monotonically related to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 (there aren’t too many items like 96), t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66880" y="3276720"/>
          <a:ext cx="304812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276720"/>
                    <a:ext cx="30481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3480" y="4248000"/>
            <a:ext cx="91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metric that is familiar to users and ea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em to interpr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cted score is already used extensively as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s for assessing differential item functioning (DIF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response spa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n-dimensional unit hypercube. The data vectors {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} are on the corn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ectors of correct response probabilities {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l along a smooth curve in response space, 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response manifo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nifold is, in principle, identifiable from the data, is therefore not a latent tra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CT Math test for males and fem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items from a 60 item math te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ound 2000 examin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le and female response manifolds diff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fferential item functioning for an ACT Math test it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hange char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ollowing total change in probability of success measure is closely related to arc lengt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5120" y="3581280"/>
          <a:ext cx="403848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3581280"/>
                    <a:ext cx="40384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general less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tting functional models to non-functional data is relatively straight-forw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e do need to transform constrained functions into unconstrained vers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define smoothness or roughness in customized ways that capture the default or baseline behavior of our estimated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nt trait models” aren’t really latent at all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xpress the idea of a one-dimensional subspace for modeling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geometry gives us the appropriate mathematical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room for creativity in choosing charting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oking a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n intimate connection between designer roughness penalties and the estimation of differential equations from da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use discrete data to estimate a differential equation that describes the da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echnical details on fitting test data with functional models are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ssi, N., Wang, X. and Ramsay, J. O. (2002) Nonparametric item response function estimates with the EM algorithm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ournal of Educational and Behavioral Statist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27, 291-31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tem response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define a smooth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charting fun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maps each point on the response manifold to a corresponding real numb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E.g.: arc leng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is way we establish a metric defining positions on this manifold.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success probability for ite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ll those at positio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This is a smooth function o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item response fun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ite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3200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sponse manifold for 3 test items: 3, 4, and 2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ve indicates the possible values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a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ircles correspond to 11 fixed values o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9880" y="1676520"/>
            <a:ext cx="4953240" cy="371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34760" y="228600"/>
            <a:ext cx="36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items from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 Psych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es “smooth” 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a standard normal distribution, then experience indicates that usual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monoton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slopes nea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for extreme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wer asymptote is positive, and the upper asymptote is 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only one inflection po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three-parameter logistic item response function is smoo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halle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item response functions take whatever shapes are supported by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control their smoothness in this s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ain the function values to lie within [0,1]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a smooth derivative, too, for the item information fun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log-odds transformation deals with the [0,1] constrai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ctually estim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log [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, whe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” in terms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ans linear behavior for extreme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small slope on the left and larger positive slope on the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5:35:29Z</dcterms:created>
  <dc:creator>J. O. Ramsay</dc:creator>
  <dc:description/>
  <dc:language>en-US</dc:language>
  <cp:lastModifiedBy>ramsay</cp:lastModifiedBy>
  <dcterms:modified xsi:type="dcterms:W3CDTF">2004-02-24T17:49:08Z</dcterms:modified>
  <cp:revision>11</cp:revision>
  <dc:subject/>
  <dc:title>Functional Methods for Testing Data</dc:title>
</cp:coreProperties>
</file>