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483-CD16-4202-87F2-2D8F0F58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180-3F8B-4B6D-8220-B34AE7B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977-EC2E-4DF9-AE41-7D787B76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FFD-BE31-44E5-981B-87F7D639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D19-F7DF-4361-AB47-25036DBE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83F-1020-4A67-B74C-14C375CD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5EC-F6BC-41FF-BBB2-0AA27779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DBF-B43A-4E9F-B742-333CA3FC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36C-0E16-4A76-B1D6-C1271BC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49C-63A2-4916-B8B2-9FF8526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A15-AD8D-49D5-A9DA-993FD24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9E9-49CC-4106-9F29-7664469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980-FE4F-4B4B-AA20-6799F901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3:58:35Z</dcterms:created>
  <dc:creator>Jim Ramsay</dc:creator>
  <dc:description/>
  <dc:language>en-US</dc:language>
  <cp:lastModifiedBy>Jim Ramsay</cp:lastModifiedBy>
  <dcterms:modified xsi:type="dcterms:W3CDTF">2005-07-21T19:13:10Z</dcterms:modified>
  <cp:revision>2</cp:revision>
  <dc:subject/>
  <dc:title>Slide 1</dc:title>
</cp:coreProperties>
</file>