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3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52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61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png" ContentType="image/png"/>
  <Override PartName="/ppt/media/image15.wmf" ContentType="image/x-wmf"/>
  <Override PartName="/ppt/media/image29.png" ContentType="image/png"/>
  <Override PartName="/ppt/media/image2.wmf" ContentType="image/x-wmf"/>
  <Override PartName="/ppt/media/image14.wmf" ContentType="image/x-wmf"/>
  <Override PartName="/ppt/media/image1.png" ContentType="image/png"/>
  <Override PartName="/ppt/media/image31.png" ContentType="image/png"/>
  <Override PartName="/ppt/media/image25.wmf" ContentType="image/x-wmf"/>
  <Override PartName="/ppt/media/image26.wmf" ContentType="image/x-wmf"/>
  <Override PartName="/ppt/media/image3.wmf" ContentType="image/x-wmf"/>
  <Override PartName="/ppt/media/image4.wmf" ContentType="image/x-wmf"/>
  <Override PartName="/ppt/media/image36.png" ContentType="image/png"/>
  <Override PartName="/ppt/media/image37.png" ContentType="image/png"/>
  <Override PartName="/ppt/media/image38.png" ContentType="image/png"/>
  <Override PartName="/ppt/media/image39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3.png" ContentType="image/png"/>
  <Override PartName="/ppt/media/image45.png" ContentType="image/png"/>
  <Override PartName="/ppt/media/image5.wmf" ContentType="image/x-wmf"/>
  <Override PartName="/ppt/media/image34.png" ContentType="image/png"/>
  <Override PartName="/ppt/media/image46.png" ContentType="image/png"/>
  <Override PartName="/ppt/media/image6.wmf" ContentType="image/x-wmf"/>
  <Override PartName="/ppt/media/image35.png" ContentType="image/png"/>
  <Override PartName="/ppt/media/image47.png" ContentType="image/png"/>
  <Override PartName="/ppt/media/image7.wmf" ContentType="image/x-wmf"/>
  <Override PartName="/ppt/media/image32.png" ContentType="image/png"/>
  <Override PartName="/ppt/media/image30.png" ContentType="image/png"/>
  <Override PartName="/ppt/media/image13.wmf" ContentType="image/x-wmf"/>
  <Override PartName="/ppt/media/image28.png" ContentType="image/png"/>
  <Override PartName="/ppt/media/image41.png" ContentType="image/png"/>
  <Override PartName="/ppt/media/image9.wmf" ContentType="image/x-wmf"/>
  <Override PartName="/ppt/media/image40.png" ContentType="image/png"/>
  <Override PartName="/ppt/media/image8.wmf" ContentType="image/x-wmf"/>
  <Override PartName="/ppt/media/image11.png" ContentType="image/png"/>
  <Override PartName="/ppt/media/image48.png" ContentType="image/png"/>
  <Override PartName="/ppt/media/image12.wmf" ContentType="image/x-wmf"/>
  <Override PartName="/ppt/media/image27.png" ContentType="image/png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9BBEC-EE23-454F-AB78-DD5536D6D1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1F0D8-AED1-4F8C-8241-B3411B12FA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C3827-8A8C-4B9C-B9A9-B8C0FB2F29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64378-4EDC-4AAA-9C9E-A19F9FBB1F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6C442-A538-40C4-9FA7-9D03C4E82D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DD548-FBEF-4E96-8FE5-139AA25FFA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0738C-0127-4290-9A49-B461E2A314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8FA9F-C922-4D17-9DAC-FFD12BCAE4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048DF-9997-491E-A80C-C50DB94416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957BC-7C92-4CA5-9D3A-692F087817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EE788-31AF-4600-A5C7-496FBF60BB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C145F-5AD5-40FE-A75C-B4648FD6E1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E87F1-059D-46F1-82E9-3BD58A1E21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75C98-A32E-49FE-A044-2CB2C58A64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80CEF-56A3-4AC3-BF40-F1958375FA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0D4F2-99A6-44E5-9C67-55E7709872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D1088-8AFE-487E-8A0B-A7E6739C40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E3C41-6C99-4677-910F-541440872E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52206-3AAC-4AF3-A702-B1BB0CA86B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45398-80D0-4DE4-AAD9-57297F3BDA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73E95-8550-476B-A5A8-318AB689C6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B9809-95B8-436B-8DC1-EE76993634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A74F4-F45D-4B0C-9CF5-56F5608AFA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96F00-370A-498D-93FC-0986FFBB25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50BC6-439D-4A51-9A83-F2DC1836EF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F4BEF-9798-4012-96B1-E81089800F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5A995-C01C-44EB-A17D-FF8D4A52A4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3203F-749D-4F5E-89CB-FE12587B80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28DE3-BD4A-44F3-8F50-9304681D8B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EEBBF-0FBD-4D9D-9970-1A700EB2A6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DE1C5-6913-4A8F-9B25-5518333C91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2F0EF-9A13-4C58-9CB8-F04544006A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4920" y="3769920"/>
            <a:ext cx="8534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4920" y="376992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7840" y="376992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2747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90680" y="1143000"/>
            <a:ext cx="2747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76080" y="1143000"/>
            <a:ext cx="2747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04920" y="3769920"/>
            <a:ext cx="2747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90680" y="3769920"/>
            <a:ext cx="2747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76080" y="3769920"/>
            <a:ext cx="2747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304920" y="11430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304920" y="146160"/>
            <a:ext cx="8610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376992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04920" y="11430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7840" y="376992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769920"/>
            <a:ext cx="8534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4920" y="3769920"/>
            <a:ext cx="8534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376992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7840" y="376992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2747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190680" y="1143000"/>
            <a:ext cx="2747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76080" y="1143000"/>
            <a:ext cx="2747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304920" y="3769920"/>
            <a:ext cx="2747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190680" y="3769920"/>
            <a:ext cx="2747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76080" y="3769920"/>
            <a:ext cx="2747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04920" y="146160"/>
            <a:ext cx="8610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4920" y="376992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7840" y="376992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769920"/>
            <a:ext cx="8534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76320"/>
            <a:ext cx="9144000" cy="609480"/>
          </a:xfrm>
          <a:prstGeom prst="rect">
            <a:avLst/>
          </a:prstGeom>
          <a:solidFill>
            <a:srgbClr val="c3d3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76320"/>
          </a:xfrm>
          <a:prstGeom prst="rect">
            <a:avLst/>
          </a:prstGeom>
          <a:solidFill>
            <a:srgbClr val="247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400800"/>
            <a:ext cx="3043080" cy="457200"/>
          </a:xfrm>
          <a:prstGeom prst="rect">
            <a:avLst/>
          </a:prstGeom>
          <a:solidFill>
            <a:srgbClr val="b5c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49560" y="6400800"/>
            <a:ext cx="3043440" cy="457200"/>
          </a:xfrm>
          <a:prstGeom prst="rect">
            <a:avLst/>
          </a:prstGeom>
          <a:solidFill>
            <a:srgbClr val="c3d3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100920" y="6400800"/>
            <a:ext cx="3043080" cy="457200"/>
          </a:xfrm>
          <a:prstGeom prst="rect">
            <a:avLst/>
          </a:prstGeom>
          <a:solidFill>
            <a:srgbClr val="dae7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228600" y="6400800"/>
            <a:ext cx="1371600" cy="4222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886200" y="3886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47 CondensedLigh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095880" y="6384960"/>
            <a:ext cx="28958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33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1999 –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Insightful Corporation,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1"/>
          <p:cNvSpPr>
            <a:spLocks noGrp="1"/>
          </p:cNvSpPr>
          <p:nvPr>
            <p:ph type="body"/>
          </p:nvPr>
        </p:nvSpPr>
        <p:spPr>
          <a:xfrm>
            <a:off x="304920" y="11430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3043080" cy="1143000"/>
          </a:xfrm>
          <a:prstGeom prst="rect">
            <a:avLst/>
          </a:prstGeom>
          <a:solidFill>
            <a:srgbClr val="b5c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560" y="0"/>
            <a:ext cx="3043440" cy="1143000"/>
          </a:xfrm>
          <a:prstGeom prst="rect">
            <a:avLst/>
          </a:prstGeom>
          <a:solidFill>
            <a:srgbClr val="c3d3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100920" y="0"/>
            <a:ext cx="3043080" cy="1143000"/>
          </a:xfrm>
          <a:prstGeom prst="rect">
            <a:avLst/>
          </a:prstGeom>
          <a:solidFill>
            <a:srgbClr val="dae7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c3d3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76320"/>
          </a:xfrm>
          <a:prstGeom prst="rect">
            <a:avLst/>
          </a:prstGeom>
          <a:solidFill>
            <a:srgbClr val="247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5257800"/>
            <a:ext cx="3035160" cy="1143000"/>
          </a:xfrm>
          <a:prstGeom prst="rect">
            <a:avLst/>
          </a:prstGeom>
          <a:solidFill>
            <a:srgbClr val="e8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5257800"/>
            <a:ext cx="3043080" cy="114300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100920" y="5257800"/>
            <a:ext cx="3043080" cy="114300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6553080"/>
            <a:ext cx="8763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Copyright </a:t>
            </a:r>
            <a:r>
              <a:rPr b="1" lang="en-US" sz="1000" spc="-1" strike="noStrike">
                <a:solidFill>
                  <a:srgbClr val="003366"/>
                </a:solidFill>
                <a:latin typeface="Symbol"/>
                <a:ea typeface="Symbol"/>
              </a:rPr>
              <a:t></a:t>
            </a:r>
            <a:r>
              <a:rPr b="1" lang="en-US" sz="1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1999 – 2005 Insightful Corporation,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33523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895480" y="1739880"/>
            <a:ext cx="3505320" cy="10796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9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40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41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42.png"/><Relationship Id="rId11" Type="http://schemas.openxmlformats.org/officeDocument/2006/relationships/image" Target="../media/image43.png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44.png"/><Relationship Id="rId14" Type="http://schemas.openxmlformats.org/officeDocument/2006/relationships/image" Target="../media/image45.png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46.png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40.png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47.png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48.png"/><Relationship Id="rId2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33523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+FDA: Tools for Functional Data Analysi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9144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Jim Ramsay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cGill University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ugust,  2005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0" y="-45720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45720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What we see in heigh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114300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Height curves are pretty smooth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But we can see the increase in slope during the pubertal growth spurt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f we look closely, we can see that timing of the pubertal growth varies a lot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he residuals are about what we expect for growth measurements, and we have the right balance between smoothness and data fit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838080" y="-304920"/>
          <a:ext cx="7696440" cy="588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-304920"/>
                    <a:ext cx="7696440" cy="588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1447920" y="5410080"/>
            <a:ext cx="670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HgtFd &lt;- fVector(fHgtFd, linDop=fDop(1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(fDHgtF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What we see in velocity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120" y="114300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Now the peak in velocity during the pubertal growth spurt is clearly visible in each curve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o is its variation in timing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nd now we see something happening before the pubertal growth spurt for most curves. 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t looks like a small preliminary growth spurt, called the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mid spurt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. 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609480" y="-285840"/>
          <a:ext cx="7848720" cy="588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-285840"/>
                    <a:ext cx="7848720" cy="588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1754280" y="5257800"/>
            <a:ext cx="624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2HgtFd &lt;- fVector(fHgtFd, linDop=fDop(2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(fD2HgtF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What we see in acceleration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he center of the pubertal growth spurt is indicated by where the acceleration curve crosses zero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hese centers range from 9 to 14 years of age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he acceleration curves are a bit unstable at 18 years, where they should go to zero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Let’s look at the mean acceleration over the pubertal growth spurt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0" y="-38088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38088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What went wrong?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he mean curve in red is a terrible summary of the actual curves!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t has less amplitude than any single curve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nd lasts longer as well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he curves show two types of variation: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mplitude vari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variation in the magnitudes of the peaks and valle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hase vari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variation in ages or timings of peaks and valle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e registration challenge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120" y="114300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Like most familiar data summaries, the mean is designed to summarize only amplitude variation. 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ach curve should be doing the “same thing” at each point in time in order for the mean to work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an we find a way to transform time so that the pubertal growth spurts all take place at the same “biological age?”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e phase-plane plo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925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o far we have looked at how height, velocity and acceleration vary over age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But how do they vary with respect to each other?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Let’s plot acceleration against velocity, for example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79250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ntroduction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-PLUS 7 software and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Functional data analysis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do functional data look lik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functional dat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look at heights of growing girls: a sample of functional data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How do I put discrete data into functional form?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he nondurable goods data: a single long multi-layered functional observation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Literature and Software References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0" y="-45720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45720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What do we see?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11430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ach curve begins in the lower right, where velocity is high and acceleration is strongly negative.  This is early childhood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hen the passes through a loop, and continues moving the the upper left, where velocity and acceleration become near zero at adulthood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he curves are remarkably coherent once in the loop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nergy transfer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114300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For moving bodies, there are two kinds of energy: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inet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high velocity, where energy can be transferred to another 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otential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igh acceleration, where energy is being absorbed from an external 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f we plot the acceleration of a pendulum or spring against its velocity, we see an ellipse. 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nergy is being transferred back and forth between these two states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781200"/>
            <a:ext cx="7391160" cy="554328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osition of a swinging pendulum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hase-plane plot for a pendulum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838080" y="781200"/>
            <a:ext cx="7391520" cy="55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What does the loop mean?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he pubertal growth spurt is a time where growth energy is being transferred between these two states, before it disappears altogether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hese loops are remarkably coherent, and phase variation has all but disappeared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Now we have a direct view of the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dynamics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of growth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e dynamics of growth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925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he phase-plane plots displays one of the relationships holding among the derivatives of height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quations involving derivatives are called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differential equations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quations of this nature model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change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, or the dynamics of a system.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Functional data analysis can involve dynamical models. 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1600200"/>
            <a:ext cx="86868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How do we estimate these height functions from noisy height data?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nstructing functions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We need a method for constructing functions that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fit any curve, no matter how complic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gives us infinite control over smooth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also assures smoothness in one or more deriva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We use functional building blocks called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basis functions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 basis function expansion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We use K functional building blocks </a:t>
            </a:r>
            <a:r>
              <a:rPr b="1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</a:t>
            </a:r>
            <a:r>
              <a:rPr b="1" i="1" lang="en-US" sz="2400" spc="-1" strike="noStrike" baseline="-25000">
                <a:solidFill>
                  <a:srgbClr val="003366"/>
                </a:solidFill>
                <a:latin typeface="Arial"/>
              </a:rPr>
              <a:t>k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(t)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hese are combined linearly to construct the function x(t) that we need: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057400" y="3276720"/>
            <a:ext cx="44704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New in 2005 from Insightfu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925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he S-PLUS 7 Platform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-PLUS 7 - Desktop, Server, Insightful-Miner,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Life Sciences Application Modules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+ArrayAnalyzer 2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-PLUS Clinical Pack for SAS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-PLUS Clinical Reporting Solu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sightful Safety Mi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Financial Services Application Modules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+Finmetrics 2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uOpt 1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Research Libraries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unctional Data Analysis (S+F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samp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ayesian modeling (S+Bay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B-spline basis functions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B-spline basis functions are usually used where the data are not periodic or stationary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he interval is divided into sub-intervals by values called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break-points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knots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Between break-points the curve is a polynomial of specified degree. (order = degree + 1)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cross break-points all but the highest non-trivial derivatives are continuous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e basis for the height data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120" y="1143000"/>
            <a:ext cx="8070840" cy="31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We want smooth acceleration curves (2</a:t>
            </a:r>
            <a:r>
              <a:rPr b="1" lang="en-US" sz="2400" spc="-1" strike="noStrike" baseline="30000">
                <a:solidFill>
                  <a:srgbClr val="003366"/>
                </a:solidFill>
                <a:latin typeface="Arial"/>
              </a:rPr>
              <a:t>nd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derivative)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We use polynomials of degree 5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Break-points are at each time of observation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045080" y="3048120"/>
            <a:ext cx="656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gtBasis = bsplineBasis(fDomain=c(1,18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asis=35, norder=6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s=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0" y="-304920"/>
          <a:ext cx="8915400" cy="577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304920"/>
                    <a:ext cx="8915400" cy="577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1203480" y="5904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74880" y="4876920"/>
            <a:ext cx="702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(heightBasis, cex=cexval, lty=1, lwd=2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lab="Age (cm)", ylab="Basis function value"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="B-spline Basis Functions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Roughness penalties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0773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n order to control smoothness, we define a measure of roughness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ince we want smooth acceleration curves, we ask that the curvature of acceleration be controlled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he total curvature of acceleration is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828800" y="3809880"/>
            <a:ext cx="533412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e final step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1536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Now we put the fitting criterion, in this case error sum of squares, together with the roughness penalty to get a composite criterion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447920" y="2666880"/>
            <a:ext cx="6350040" cy="29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How it works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moothing parameter </a:t>
            </a:r>
            <a:r>
              <a:rPr b="1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3366"/>
                </a:solidFill>
                <a:latin typeface="Arial Unicode MS"/>
              </a:rPr>
              <a:t>controls the trade-off between fitting the data and having a smooth function </a:t>
            </a:r>
            <a:r>
              <a:rPr b="1" i="1" lang="en-US" sz="2400" spc="-1" strike="noStrike">
                <a:solidFill>
                  <a:srgbClr val="003366"/>
                </a:solidFill>
                <a:latin typeface="Arial Unicode MS"/>
              </a:rPr>
              <a:t>x(t).</a:t>
            </a:r>
            <a:r>
              <a:rPr b="1" lang="en-US" sz="2400" spc="-1" strike="noStrike">
                <a:solidFill>
                  <a:srgbClr val="003366"/>
                </a:solidFill>
                <a:latin typeface="Arial Unicode MS"/>
              </a:rPr>
              <a:t>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Unicode MS"/>
              </a:rPr>
              <a:t>The smaller </a:t>
            </a:r>
            <a:r>
              <a:rPr b="1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</a:t>
            </a:r>
            <a:r>
              <a:rPr b="1" lang="en-US" sz="2400" spc="-1" strike="noStrike">
                <a:solidFill>
                  <a:srgbClr val="003366"/>
                </a:solidFill>
                <a:latin typeface="Arial Unicode MS"/>
              </a:rPr>
              <a:t>the more closely </a:t>
            </a:r>
            <a:r>
              <a:rPr b="1" i="1" lang="en-US" sz="2400" spc="-1" strike="noStrike">
                <a:solidFill>
                  <a:srgbClr val="003366"/>
                </a:solidFill>
                <a:latin typeface="Arial Unicode MS"/>
              </a:rPr>
              <a:t>x(t) </a:t>
            </a:r>
            <a:r>
              <a:rPr b="1" lang="en-US" sz="2400" spc="-1" strike="noStrike">
                <a:solidFill>
                  <a:srgbClr val="003366"/>
                </a:solidFill>
                <a:latin typeface="Arial Unicode MS"/>
              </a:rPr>
              <a:t>fits the data, but the rougher it will be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Unicode MS"/>
              </a:rPr>
              <a:t>The larger </a:t>
            </a:r>
            <a:r>
              <a:rPr b="1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</a:t>
            </a:r>
            <a:r>
              <a:rPr b="1" lang="en-US" sz="2400" spc="-1" strike="noStrike">
                <a:solidFill>
                  <a:srgbClr val="003366"/>
                </a:solidFill>
                <a:latin typeface="Arial Unicode MS"/>
              </a:rPr>
              <a:t>the smoother </a:t>
            </a:r>
            <a:r>
              <a:rPr b="1" i="1" lang="en-US" sz="2400" spc="-1" strike="noStrike">
                <a:solidFill>
                  <a:srgbClr val="003366"/>
                </a:solidFill>
                <a:latin typeface="Arial Unicode MS"/>
              </a:rPr>
              <a:t>x(t) </a:t>
            </a:r>
            <a:r>
              <a:rPr b="1" lang="en-US" sz="2400" spc="-1" strike="noStrike">
                <a:solidFill>
                  <a:srgbClr val="003366"/>
                </a:solidFill>
                <a:latin typeface="Arial Unicode MS"/>
              </a:rPr>
              <a:t>will be, and it will ultimately be forced to fit the data with a polynomial of degree 3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e S-PLUS FDA code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120" y="114300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fHgtPenalty &lt;- list(lambda=0.05,        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linDop=fDop(4))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fHgtFd &lt;- fVector(heightBasis, fHgt,  age,             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                           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enalty=fHgtPenalty )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What about a single long functional observation?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e Nondurable Goods Index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838080" y="781200"/>
            <a:ext cx="7391520" cy="55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685440" y="1066680"/>
            <a:ext cx="80773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Nondurable goods last less than two years: Food, clothing, cigarettes, alcohol, but not personal computers!!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he nondurable goods manufacturing index is an indicator of the economics of everyday life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he index has been published monthly by the US Federal Reserve Board since 1919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t complements the durable goods manufacturing index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" y="763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Nondurable Go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-PLUS 7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1440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NEW: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Enterprise development environment.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-PLUS Workbench - Eclipse IDE, interfaces with source-code control syste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NEW: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ipeline architecture for scalable performance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, manipulate and analyze gigabyte-class datasets on commodity hard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NEW: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tatistical techniques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ed effects for non-normal data, mixed effects survival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NEW: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Graphical analysis e.g. Trellis on large data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Integrate: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Open architecture, APIs and servers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iver advanced statistical methods, where and how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S-PLUS 7: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The only statistical software offering both rapid prototyping and analysis of large data sets integrated across the enterprise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What we want to do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925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Look at important events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xamine the overall trend in the index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Have a look at the annual or seasonal behavior of the index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Understand how the seasonal behavior changes over the years and with specific events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e log nondurable goods index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vents and Trends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143000"/>
            <a:ext cx="7696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hort term: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29 stock market cr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37 restriction of money sup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74 end of Vietnam war, OPEC oil cri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edium term: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ld War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usually rapid growth 1960-19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usually slow growth 1990 to 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Long term increase of 1.5% per year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e evolution of seasonal trend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120" y="114300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We focus on the years 1948 to 1999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We estimate long- and medium-term trend by spline smoothing, but with knots too far apart to capture seasonal trend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We subtract this smooth trend to leave only seasonal trend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685800" y="762120"/>
          <a:ext cx="7696080" cy="553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762120"/>
                    <a:ext cx="7696080" cy="553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15364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ree years of typical trend: 1964-1966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asonal Trend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925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ypically three peaks per year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he largest is in the fall, peaking at the beginning of October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he low point is mid-December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143000" y="766800"/>
            <a:ext cx="6858000" cy="555768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Non-seasonal trend is in red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066680" y="789120"/>
            <a:ext cx="6934320" cy="548460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asonal trend = data – nonseasonal trend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2895480" y="914400"/>
          <a:ext cx="7086600" cy="544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914400"/>
                    <a:ext cx="7086600" cy="54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hase-plane plot for 1964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-149760" y="1143000"/>
            <a:ext cx="4187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here are three large loops separated by two small loops or cusps: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10764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pring cyc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mid-January into Apr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764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mmer cyc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May through Aug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764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all cyc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October through Dec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438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 look at the years 1929-1931.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22860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Let’s take a look at some functional data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"/>
          <p:cNvGraphicFramePr/>
          <p:nvPr/>
        </p:nvGraphicFramePr>
        <p:xfrm>
          <a:off x="555480" y="708120"/>
          <a:ext cx="7826400" cy="574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5480" y="708120"/>
                    <a:ext cx="7826400" cy="574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228600" y="76320"/>
            <a:ext cx="86104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hase-plane plot for 192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1" name=""/>
          <p:cNvGraphicFramePr/>
          <p:nvPr/>
        </p:nvGraphicFramePr>
        <p:xfrm>
          <a:off x="380880" y="722160"/>
          <a:ext cx="8153640" cy="575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722160"/>
                    <a:ext cx="8153640" cy="575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228600" y="76320"/>
            <a:ext cx="86104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hase-plane plot for 19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533520" y="642960"/>
          <a:ext cx="7696080" cy="582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642960"/>
                    <a:ext cx="7696080" cy="58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228600" y="76320"/>
            <a:ext cx="86104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hase-plane plot for 193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1929 through 1931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120" y="11430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he stock market crash shows up as a large negative surge in velocity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ubsequent years nearly lose the fall production cycle, as people tighten their belts and spend less at Christmas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76320" y="762120"/>
          <a:ext cx="8534160" cy="549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762120"/>
                    <a:ext cx="8534160" cy="54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2940120" y="76320"/>
            <a:ext cx="349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uring World War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609120" y="990360"/>
            <a:ext cx="81536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uring World War II, the seasonal cycle became very small, since the war, and the production that fed it, lasted all year long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Now look at three pivotal years, 1974 to 1976, when the Vietnam War ended and the OPEC oil crisis happened.  Watch the shrinking of the fall cycle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940120" y="76320"/>
            <a:ext cx="349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uring World War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"/>
          <p:cNvGraphicFramePr/>
          <p:nvPr/>
        </p:nvGraphicFramePr>
        <p:xfrm>
          <a:off x="457200" y="609480"/>
          <a:ext cx="7772400" cy="582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9480"/>
                    <a:ext cx="7772400" cy="582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"/>
          <p:cNvSpPr/>
          <p:nvPr/>
        </p:nvSpPr>
        <p:spPr>
          <a:xfrm>
            <a:off x="228600" y="76320"/>
            <a:ext cx="86104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hase-plane plot for 197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609480" y="685800"/>
          <a:ext cx="7543800" cy="565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685800"/>
                    <a:ext cx="7543800" cy="56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228600" y="76320"/>
            <a:ext cx="86104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hase-plane plot for 197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0" name=""/>
          <p:cNvGraphicFramePr/>
          <p:nvPr/>
        </p:nvGraphicFramePr>
        <p:xfrm>
          <a:off x="457200" y="704880"/>
          <a:ext cx="7772400" cy="58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704880"/>
                    <a:ext cx="7772400" cy="58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"/>
          <p:cNvSpPr/>
          <p:nvPr/>
        </p:nvSpPr>
        <p:spPr>
          <a:xfrm>
            <a:off x="228600" y="76320"/>
            <a:ext cx="86104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hase-plane plot for 197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1337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What about today?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0" y="-45720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45720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4" name=""/>
          <p:cNvGraphicFramePr/>
          <p:nvPr/>
        </p:nvGraphicFramePr>
        <p:xfrm>
          <a:off x="457200" y="704880"/>
          <a:ext cx="7696080" cy="577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704880"/>
                    <a:ext cx="7696080" cy="577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228600" y="76320"/>
            <a:ext cx="86104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hase-plane plot for 19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ese days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82296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Over the last ten years the size of all three cycles have become much smaller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Why?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variation now smoothed out by information technolog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he aging baby boomers spending le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personal computers, video games, and other electronic goods really durab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manufacturing now moved off sho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We can separate long- and medium-term trends from seasonal trends by smoothing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hase-plane plots are great ways to inspect seasonality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erivatives were used in two ways: to penalize roughness, and to reflect the dynamics of manufacturing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Unique Aspects of Functional Data Analysis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he processes generating the data are smooth, so that we can use derivatives in various ways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vents in functional data occur over different time scales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ime itself may be an elastic medium, and vary over functional observations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ifferential equations can play a big role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inding out More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larkson, D. B., Fraley, C., Gu, C. C. and Ramsay, J. O. (2005)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S+Functional Data Analysis User’s Guide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.  Springer.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Ramsay, J. O. and Silverman, B. W. (2005)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Functional Data Analysis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. Second Edition. Springer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Ramsay, J. O. and Silverman, B. W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(2002)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Applied Functional Data Analysis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. Springer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Visit the FDA website: www.functionaldata.org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-PLUS 7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91440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NEW: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Enterprise development environment.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-PLUS Workbench - Eclipse IDE, interfaces with source-code control syste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NEW: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ipeline architecture for scalable performance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, manipulate and analyze gigabyte-class datasets on commodity hard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NEW: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tatistical techniques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ed effects for non-normal data, mixed effects survival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NEW: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Graphical analysis e.g. Trellis on large data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Integrate: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Open architecture, APIs and servers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iver advanced statistical methods, where and how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S-PLUS 7: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The only statistical software offering both rapid prototyping and analysis of large data sets integrated across the enterprise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rug Discovery Solutions 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4800600" cy="43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S+ArrayAnalyzer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croarray data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Insightful Biomarker Analysis and Pharmacogenomics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rrogate endpoints, oversampled 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S+Gene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istical genetics, SNPs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Insightful High Throughput Screening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mart screening, rigorous QC and hit det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S-PLUS Server for DecisionSite 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 S-PLUS from inside Spotf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rcRect l="22504" t="1250" r="22504" b="1250"/>
          <a:stretch/>
        </p:blipFill>
        <p:spPr>
          <a:xfrm>
            <a:off x="5562720" y="1143000"/>
            <a:ext cx="2006640" cy="2666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50" name="" descr=""/>
          <p:cNvPicPr/>
          <p:nvPr/>
        </p:nvPicPr>
        <p:blipFill>
          <a:blip r:embed="rId2"/>
          <a:srcRect l="22504" t="1250" r="22504" b="1250"/>
          <a:stretch/>
        </p:blipFill>
        <p:spPr>
          <a:xfrm>
            <a:off x="6019920" y="1905120"/>
            <a:ext cx="205092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51" name="" descr=""/>
          <p:cNvPicPr/>
          <p:nvPr/>
        </p:nvPicPr>
        <p:blipFill>
          <a:blip r:embed="rId3"/>
          <a:srcRect l="23441" t="3751" r="23441" b="3751"/>
          <a:stretch/>
        </p:blipFill>
        <p:spPr>
          <a:xfrm>
            <a:off x="6516720" y="2743200"/>
            <a:ext cx="2009880" cy="2625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52" name="" descr=""/>
          <p:cNvPicPr/>
          <p:nvPr/>
        </p:nvPicPr>
        <p:blipFill>
          <a:blip r:embed="rId4"/>
          <a:srcRect l="23441" t="1250" r="23441" b="1250"/>
          <a:stretch/>
        </p:blipFill>
        <p:spPr>
          <a:xfrm>
            <a:off x="7053120" y="3429000"/>
            <a:ext cx="199260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380880" y="763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rug Discovery Solu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9480" y="990720"/>
            <a:ext cx="4800600" cy="43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S+ArrayAnalyz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croarray data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Insightful Biomarker Analysis and Pharmacogenomic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rrogate endpoints, oversampled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S+Ge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istical genetics, SNPs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Insightful High Throughput Scree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mart screening, rigorous QC and hit det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S-PLUS Server for DecisionSit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 S-PLUS from inside Spotf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rcRect l="22504" t="1250" r="22504" b="1250"/>
          <a:stretch/>
        </p:blipFill>
        <p:spPr>
          <a:xfrm>
            <a:off x="5562720" y="1143000"/>
            <a:ext cx="2006640" cy="2666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56" name="" descr=""/>
          <p:cNvPicPr/>
          <p:nvPr/>
        </p:nvPicPr>
        <p:blipFill>
          <a:blip r:embed="rId2"/>
          <a:srcRect l="22504" t="1250" r="22504" b="1250"/>
          <a:stretch/>
        </p:blipFill>
        <p:spPr>
          <a:xfrm>
            <a:off x="6019920" y="1905120"/>
            <a:ext cx="205092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57" name="" descr=""/>
          <p:cNvPicPr/>
          <p:nvPr/>
        </p:nvPicPr>
        <p:blipFill>
          <a:blip r:embed="rId3"/>
          <a:srcRect l="23441" t="3751" r="23441" b="3751"/>
          <a:stretch/>
        </p:blipFill>
        <p:spPr>
          <a:xfrm>
            <a:off x="6516720" y="2743200"/>
            <a:ext cx="2009880" cy="2625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58" name="" descr=""/>
          <p:cNvPicPr/>
          <p:nvPr/>
        </p:nvPicPr>
        <p:blipFill>
          <a:blip r:embed="rId4"/>
          <a:srcRect l="23441" t="1250" r="23441" b="1250"/>
          <a:stretch/>
        </p:blipFill>
        <p:spPr>
          <a:xfrm>
            <a:off x="7053120" y="3429000"/>
            <a:ext cx="199260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59" name=""/>
          <p:cNvSpPr/>
          <p:nvPr/>
        </p:nvSpPr>
        <p:spPr>
          <a:xfrm>
            <a:off x="3352680" y="5029200"/>
            <a:ext cx="548640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FSlogo" descr=""/>
          <p:cNvPicPr/>
          <p:nvPr/>
        </p:nvPicPr>
        <p:blipFill>
          <a:blip r:embed="rId5"/>
          <a:stretch/>
        </p:blipFill>
        <p:spPr>
          <a:xfrm>
            <a:off x="3416400" y="5132520"/>
            <a:ext cx="5357880" cy="6588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3928320" y="5805360"/>
            <a:ext cx="4283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Univers 57 Condensed"/>
              </a:rPr>
              <a:t>2004 Innovation A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rcRect l="22504" t="1250" r="22504" b="1250"/>
          <a:stretch/>
        </p:blipFill>
        <p:spPr>
          <a:xfrm>
            <a:off x="5437080" y="1219320"/>
            <a:ext cx="2125800" cy="282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63" name=""/>
          <p:cNvSpPr/>
          <p:nvPr/>
        </p:nvSpPr>
        <p:spPr>
          <a:xfrm>
            <a:off x="304920" y="0"/>
            <a:ext cx="8534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nical Development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990720"/>
            <a:ext cx="4800600" cy="43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nsightful Safety M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d clinical / safety data management, analysis and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-PLUS Clinical 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 S-PLUS from inside SAS 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-PLUS Clinical Repor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ed graphical and tabular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+SeqT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quential clinical trial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-PLUS Valid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S-PLUS for 21 CFR11/Gx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5775480" y="1811160"/>
            <a:ext cx="2073240" cy="2889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66" name="" descr=""/>
          <p:cNvPicPr/>
          <p:nvPr/>
        </p:nvPicPr>
        <p:blipFill>
          <a:blip r:embed="rId3"/>
          <a:stretch/>
        </p:blipFill>
        <p:spPr>
          <a:xfrm>
            <a:off x="6110280" y="2338560"/>
            <a:ext cx="2043000" cy="2786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67" name="" descr=""/>
          <p:cNvPicPr/>
          <p:nvPr/>
        </p:nvPicPr>
        <p:blipFill>
          <a:blip r:embed="rId4"/>
          <a:srcRect l="23441" t="7501" r="23441" b="1250"/>
          <a:stretch/>
        </p:blipFill>
        <p:spPr>
          <a:xfrm>
            <a:off x="6527880" y="2871720"/>
            <a:ext cx="212868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68" name="" descr=""/>
          <p:cNvPicPr/>
          <p:nvPr/>
        </p:nvPicPr>
        <p:blipFill>
          <a:blip r:embed="rId5"/>
          <a:stretch/>
        </p:blipFill>
        <p:spPr>
          <a:xfrm>
            <a:off x="6858000" y="3535200"/>
            <a:ext cx="2028960" cy="2765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0" y="3876840"/>
            <a:ext cx="4419720" cy="298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648320" y="3876840"/>
            <a:ext cx="4495680" cy="298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648320" y="600120"/>
            <a:ext cx="4495680" cy="3133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600120"/>
            <a:ext cx="4419720" cy="3133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6477120" y="5369040"/>
            <a:ext cx="2057400" cy="103176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5334120" y="5018040"/>
            <a:ext cx="1828800" cy="1093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5" name=""/>
          <p:cNvGraphicFramePr/>
          <p:nvPr/>
        </p:nvGraphicFramePr>
        <p:xfrm>
          <a:off x="5791320" y="1757520"/>
          <a:ext cx="1876320" cy="121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1757520"/>
                    <a:ext cx="1876320" cy="12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1351080" y="4343400"/>
          <a:ext cx="1457280" cy="1204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51080" y="4343400"/>
                    <a:ext cx="1457280" cy="12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228600" y="1219320"/>
          <a:ext cx="2438280" cy="1398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" y="1219320"/>
                    <a:ext cx="2438280" cy="13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"/>
          <p:cNvGraphicFramePr/>
          <p:nvPr/>
        </p:nvGraphicFramePr>
        <p:xfrm>
          <a:off x="7391520" y="1986120"/>
          <a:ext cx="1676160" cy="1328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391520" y="1986120"/>
                    <a:ext cx="1676160" cy="13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3" name="" descr=""/>
          <p:cNvPicPr/>
          <p:nvPr/>
        </p:nvPicPr>
        <p:blipFill>
          <a:blip r:embed="rId11"/>
          <a:stretch/>
        </p:blipFill>
        <p:spPr>
          <a:xfrm>
            <a:off x="6248520" y="4419720"/>
            <a:ext cx="2057400" cy="1170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4" name=""/>
          <p:cNvGraphicFramePr/>
          <p:nvPr/>
        </p:nvGraphicFramePr>
        <p:xfrm>
          <a:off x="1960560" y="4800600"/>
          <a:ext cx="1316160" cy="11145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960560" y="4800600"/>
                    <a:ext cx="131616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6" name="" descr=""/>
          <p:cNvPicPr/>
          <p:nvPr/>
        </p:nvPicPr>
        <p:blipFill>
          <a:blip r:embed="rId14"/>
          <a:stretch/>
        </p:blipFill>
        <p:spPr>
          <a:xfrm>
            <a:off x="1752480" y="2209680"/>
            <a:ext cx="1905120" cy="708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7" name=""/>
          <p:cNvGraphicFramePr/>
          <p:nvPr/>
        </p:nvGraphicFramePr>
        <p:xfrm>
          <a:off x="6324480" y="1071720"/>
          <a:ext cx="2438640" cy="1118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324480" y="1071720"/>
                    <a:ext cx="2438640" cy="11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"/>
          <p:cNvSpPr/>
          <p:nvPr/>
        </p:nvSpPr>
        <p:spPr>
          <a:xfrm>
            <a:off x="5943600" y="3886200"/>
            <a:ext cx="2666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ompliance and Reporting,                Value at Risk &amp; Basel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334120" y="619200"/>
            <a:ext cx="350496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ortfolio Construction, Analysis, Back-testing, Optimization and Risk Mgm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" y="396252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Enterprise Reporting and Visual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2428920" y="1081080"/>
          <a:ext cx="1457280" cy="12049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428920" y="1081080"/>
                    <a:ext cx="1457280" cy="12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512640" y="4648320"/>
          <a:ext cx="1524240" cy="12952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12640" y="4648320"/>
                    <a:ext cx="15242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"/>
          <p:cNvGraphicFramePr/>
          <p:nvPr/>
        </p:nvGraphicFramePr>
        <p:xfrm>
          <a:off x="1274760" y="5114880"/>
          <a:ext cx="1219320" cy="10573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274760" y="5114880"/>
                    <a:ext cx="121932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"/>
          <p:cNvSpPr/>
          <p:nvPr/>
        </p:nvSpPr>
        <p:spPr>
          <a:xfrm>
            <a:off x="0" y="660240"/>
            <a:ext cx="2895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Financial Time Series  and Vendor Data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86200" y="596880"/>
            <a:ext cx="1447920" cy="21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Capital Mar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Fun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Credit/Loa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Insu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Corpor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As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6320" y="2971800"/>
            <a:ext cx="3429000" cy="457200"/>
          </a:xfrm>
          <a:prstGeom prst="wedgeRectCallout">
            <a:avLst>
              <a:gd name="adj1" fmla="val -41527"/>
              <a:gd name="adj2" fmla="val -17916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cess, analyze and transform financial time series data through visual work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Generate derived data like returns or volatilitie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629240" y="2933640"/>
            <a:ext cx="4190760" cy="304920"/>
          </a:xfrm>
          <a:prstGeom prst="wedgeRectCallout">
            <a:avLst>
              <a:gd name="adj1" fmla="val -16703"/>
              <a:gd name="adj2" fmla="val 5625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over new strategies &amp; products;                       Create Create optimal portfolios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ploy new models and products to the enterprise; Value and manage risk on existing portfol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52280" y="6248520"/>
            <a:ext cx="4191120" cy="457200"/>
          </a:xfrm>
          <a:prstGeom prst="wedgeRectCallout">
            <a:avLst>
              <a:gd name="adj1" fmla="val -9736"/>
              <a:gd name="adj2" fmla="val 9583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ich reporting &amp; graphics to share information with the enterp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762440" y="6400800"/>
            <a:ext cx="4572000" cy="457200"/>
          </a:xfrm>
          <a:prstGeom prst="wedgeRectCallout">
            <a:avLst>
              <a:gd name="adj1" fmla="val -1143"/>
              <a:gd name="adj2" fmla="val 7083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 state of the art simulations and econometrics to determine VaR and reduce capital reserve requi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112120" y="14400"/>
            <a:ext cx="509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-PLUS in Financial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e heights of girls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120" y="114300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29 measurements over ages 1 to 18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imes are not equally spaced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ypical errors of measurement from 7 mm in infancy to 3 mm in adolescence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We want a smooth curve estimated from each child’s discrete data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Velocity and acceleration will tell us a lot about the dynamics of growth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What makes these data functional?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14300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We can assume that children grow smoothly, and therefore that growth can be expressed as a smooth curve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We think of an entire curve as a single unitary observation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We want to understand the shape of the curve, and also its rate of change, or velocity, and perhaps its acceleration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0" y="-45720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45720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8T21:15:43Z</dcterms:created>
  <dc:creator>David Smith</dc:creator>
  <dc:description/>
  <dc:language>en-US</dc:language>
  <cp:lastModifiedBy>Jim Ramsay</cp:lastModifiedBy>
  <dcterms:modified xsi:type="dcterms:W3CDTF">2005-08-15T18:34:13Z</dcterms:modified>
  <cp:revision>131</cp:revision>
  <dc:subject/>
  <dc:title>PowerPoint Presentation</dc:title>
</cp:coreProperties>
</file>