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D00-7A4C-4FBE-8CE0-58A8DBC0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5A9-8949-45EF-979E-7EBDE96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EBF-1950-47FE-9661-B645D3C2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BA5-E009-46A7-A4FE-88B22CDD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4E7-6B34-4E1F-8191-42A428EF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6B2-C1C9-4920-BA41-3C0350D5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70E-51D5-4950-8533-205EFE14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0F6-D662-4C15-B0A5-10FB903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133-045A-4AAE-B81D-8C5D58E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25A-835B-4293-B545-48629FB1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9C8-CF7D-4174-8684-72792863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E37-BF21-4AA6-9590-DC2A5BA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E62-2AB2-4105-AA39-551A1637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ite for functiona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6:06:19Z</dcterms:created>
  <dc:creator>ramsay</dc:creator>
  <dc:description/>
  <dc:language>en-US</dc:language>
  <cp:lastModifiedBy>ramsay</cp:lastModifiedBy>
  <dcterms:modified xsi:type="dcterms:W3CDTF">2004-12-09T16:08:12Z</dcterms:modified>
  <cp:revision>2</cp:revision>
  <dc:subject/>
  <dc:title>Web site for functional data analysis</dc:title>
</cp:coreProperties>
</file>