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DCE-8D35-4366-B26D-10CEBC38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88E-34EE-4851-A526-6745B893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F67-A8BD-4770-BB03-E048CB58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369-8CF1-4D31-9223-807A79D1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83F8-763B-4E19-A85A-3DDA052B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87A2-4D48-40ED-A37A-899C9852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EA43-6D4C-47A1-932A-240EDF0E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EB48-DE80-499D-AC61-5D7A9258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D8C5-4D13-43BD-9EE8-2A732D77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1403-A15A-4AA1-A096-BBBE15ED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53B4-DF83-4EB6-9639-9F003F78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D42-9001-430B-8C85-DC492EDB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638F-448B-4835-BB16-8920A64D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D7B5-7573-4DFB-9D71-8851498B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3EF2-A6A7-4BA7-8C66-459FDD35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55BE-EA7C-4724-A062-C09F2BB6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EB0F-DCDE-45A1-A1E0-D53E0BBC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CDF-7438-4C2F-A114-FB4B0F50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4AC-B1EA-4B1B-9BFA-451B37E7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755-327D-488F-BC1C-F00958F0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B88-0A20-4C27-8036-03450300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7A0-B864-49DD-9A6C-EAE094E7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9B7-477C-479D-A91B-FD3E6868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5C7-1EC1-4411-8D7E-C913CA8A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0478-38F4-401B-8C8E-59B9CFC915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210A-68D2-4969-BDEB-FBA0076392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6984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 and Amplitude Variation in Montreal Weath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m Ram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Gill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193680"/>
            <a:ext cx="861048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5000"/>
            <a:ext cx="81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e unconstrained B-spline smooth minus the constrained Fourier smooth reveals some striking discrepanc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ocus on Christmas, 1989.  The Ramsay’s spent the holidays in a chalet in the Townships, and awoke to –37 deg C.  No skiing, car dead, maroone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temperature would still be cold in mid-January, but less unus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53416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gist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unconstrained smooth b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the strictly periodic smooth b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to estimate a nonlinear strictly increasing smooth transformation of tim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t)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lled a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arping fun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uch that a fitting criterion is minimize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tting criter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676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tting criterion was the smallest eigenvalue of the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19320" y="2800440"/>
          <a:ext cx="6476760" cy="160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800440"/>
                    <a:ext cx="6476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219320" y="46483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03480" y="43592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495680"/>
            <a:ext cx="632448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riterion measures the extent to which a plot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[h(t)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gains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linear, and thus whether the two curves are in ph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warping function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h(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smooth strictly monotone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uch th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0) = 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be represented 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95280" y="3124080"/>
          <a:ext cx="4640400" cy="141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124080"/>
                    <a:ext cx="4640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838080" y="5334120"/>
            <a:ext cx="7391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49568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present unconstrained functio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(v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a B-spline expansion.  Consta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determined by constrai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(T) = 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deformation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d(t)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=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h(t) - 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is allows us to see when the seasons come early (negative deformation) or late (positive deformati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15328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-winter for 1989-1990 arrived about 25 days ear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xt step is to register the temperature data by computing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*(t) = x[h(t)].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gistered curv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*(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ins only amplitude vari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stration was done by Matlab function registerfd, available by ftp f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go.psych.mcgill.ca/pub/ramsay/FDAfu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4 years of daily temperatures, 1961-1994 inclu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es are averages of daily maximum and minim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410 observations in tenths of a degree Cels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ailable for Montreal and 34 other Canadian weather s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mplitude vari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difference between the unconstrained smooth and the strictly periodic smooth is 2.15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difference between the registered smooth and the periodic smooth is 1.73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.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1.7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/2.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.35, the proportion of the variation due to ph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data around the registered smooth is 2.13 C, compared with 2.07 C for the unregistered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10% of the total variation is due to ph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 variation is an important part of weather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sticians seldom think about phase variation, and classical time series methods ignore it complet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 variation needs more attention, and registration is an essential t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07732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know that there are two kinds of variation in these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mplitude var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day-to-day and year-to-year variation in temperature at events such as the depth of win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hase var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the timing of these events -- the seasons arrive early in some years, and late in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e phase variation from amplitude variation b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egister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eries to its strictly periodic im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imate components of variation due to amplitude and phase vari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mooth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gistration process requires that we smooth the data two way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n unconstrained smooth that removes the day-to-day variation, but leaves longer-term variation unchang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strictly periodic smooth that eliminates all but strictly periodic tr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constrained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w data are represented by a B-spline expansion using 500 basis functions of order 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t about every 25 d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data about this smooth, adjusted for degrees of freedom, is 4.30 degrees Celsi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53416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iodic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s is Fourier, with 9 basis functions judged to be enough to capture most of the strictly periodic trend for a period of one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about data about this smooth is 4.74 deg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e this to 4.30 deg C. for the unconstrained smooth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14:15:37Z</dcterms:created>
  <dc:creator>James Owen Ramsay</dc:creator>
  <dc:description/>
  <dc:language>en-US</dc:language>
  <cp:lastModifiedBy>ramsay</cp:lastModifiedBy>
  <dcterms:modified xsi:type="dcterms:W3CDTF">2004-06-07T14:00:33Z</dcterms:modified>
  <cp:revision>13</cp:revision>
  <dc:subject/>
  <dc:title>Phase and Amplitude Variation in Montreal Weather</dc:title>
</cp:coreProperties>
</file>