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9F0-3670-4520-BE12-C75DB40D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F81-E8AC-4B14-BEE4-1B6D4959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28D-913B-4650-919F-9C9AC42B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576-F5B8-4833-A223-959C09EA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22E3-59C0-4756-A205-E9097877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0D14-44B0-4C93-A066-E2F2EB62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45B-083B-4446-A526-10ABDF5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E5A0-5972-48FC-BC0A-26995C89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BCE-D7BD-4B95-BDDD-4F2EBF4C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6321-4443-4949-9BE7-D9AACE2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821-6980-4ACB-9F6F-AF0C0D1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8B2-8D87-47BD-8027-4ACA85E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1308-5B41-430E-84FF-D7819B4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32C3-20D2-41D8-BFAA-136847E6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4C1-723D-49A5-9D5D-2E59B354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8D41-98A3-4C50-87E9-77CA2241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478-8580-4448-96A6-6D43CFF4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791-BC1B-42D2-9479-D8C775B9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013-F762-4F41-B190-32AC8FE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759-5DB3-4124-8518-8FDA444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E36-4638-49F5-8D51-6352962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C52-DE74-4D69-A5A1-48EB30C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695-F67B-454E-95ED-B9469A1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170-3A7B-4876-9897-BB73ADA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BA2-090E-4522-AF08-09810E42274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1AB-C116-4798-A47B-60E91A21EF9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im Ram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cGill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1447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Basis Basics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basis should I use for non-periodic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pline ba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nearly everything: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inite and independent control over shift, scale,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tential to model sharp changes i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s well as its smooth vari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st as polynomials to evalua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nd-structured matrix of val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 B-splines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t with a discrete mesh of values, call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knot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          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…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ace out the knots where you don’t need much resolution, make them dense where you need a lot of res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5080" y="233352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the box function over    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]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≤ t &lt;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wi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shift to another interv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determined by spacing between kno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5080" y="1828800"/>
            <a:ext cx="40370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smoothn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oothness control is the heart of spline technolog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defined by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ecursion rel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cursion relation uses spline basis functions at a given smoothness level to make new ones at the next higher smoothness leve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-spline no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pline basis system we use is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B-splin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ystem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keep notation simple, let the knots be the natural number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j = 0, 1,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two indices for a B-spline basis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jm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the knot where it starts, and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its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degree of smoothnes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our box functions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 =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4341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-splines of order 2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t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unctions, starting at a knot, rising linearly to 1 at the next knot, and decaying linearly to 0 two knots o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y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Order 2 implies a continuous derivative of order 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rder 2 knots are piecewise line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bout order 3 B-spline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4037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cursion for integer kn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98720" y="1392120"/>
          <a:ext cx="71751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392120"/>
                    <a:ext cx="71751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989280" y="327672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the B-spline function of order 2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ginning at 0, the recursion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09680" y="4495680"/>
          <a:ext cx="682776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9680" y="4495680"/>
                    <a:ext cx="682776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36720" y="609480"/>
          <a:ext cx="69627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609480"/>
                    <a:ext cx="69627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5800" y="1892160"/>
            <a:ext cx="7848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first term, the mother box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is therefor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tsel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second, the mother box is shifted to the right and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-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econd term amounts to a shift and reflection of the first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a Tent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2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rom Two Boxes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1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Order 3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3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om Two Tent Fun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are basis functio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ies should they ha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are they usually construct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ier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-spline bases:  Lots of detail he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vice, wrap-up, and beyo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-j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creases the polynomial degree of the B-spline in the first term by 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m+j-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the same thing for the reflected and shifted B-spline in the second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 is a new B-spline of one degree or order higher, spread over an additional interval, and having an one more level of continuous deriv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der 3 B-splines are piece-wise quadratic, spread over 3 intervals, and have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get the extra smoothnes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2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values at knot 1.  The sum is continuo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3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derivative values at knots 1 and 2.  The sum has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time we multiply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then shift and reflect the result, we add another order of smooth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ppose I don’t want so much smoothness at a fixed poi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have multiple knots at a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ach additional knot, the spline function will have one less derivative at that kn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spline with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a point can be discontinuous at that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spline software place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each of the bounda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any B-spline basis functions am I us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ll interior knots are unique, the total number of B-spline basis functions is equal to the number of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interi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plus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re are no interior knots, splines become polynomials:  The order equals the number of basis fun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s take this shift/scale/smooth trio of operations even further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define basis functions organized into orthogonal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evels of 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ing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ulti-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alysis is one of the most exciting developments in mathematics since Fourier’s se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ad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have periodic data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n’t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B-splin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pecially if you need to look at or work with derivative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want a derivative of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fit the data with a spline of order at leas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+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lthough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s some advant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have we be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ear combinations of basis functions are a convenient way to model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re basis functions we use, the more complex the fitted function can b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basis function systems involve turning three knobs, mark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, 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modify a mother function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est systems permit independent control of these featu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ke splines and wavele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though we can control the resolution of a spline fit by the number of spline basis functions and the spacing of knots, we often need easier more continuous control over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oughness penalt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an give us the additional control that we ne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basis functions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flexible method for constructing a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can track local curva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pick a system of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unctions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call this th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f(t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expres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weighted su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se basis func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=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…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efficient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… ,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 the shape of the fun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we want from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individual basis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can exhibit the required curvature where needed, but also be nearly linear when appropria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coefficient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possible if matrices of values are diagonal, banded or spar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Differentiabl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required:  We make lots of use of derivatives in functional data analy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Constraine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s required, such as periodicity, positivity, monotonicity, asymptotes and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some commonly used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Power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t, t</a:t>
            </a:r>
            <a:r>
              <a:rPr b="0" i="1" lang="en-US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and so on.  They are the basis functions for polynomials.  These are not very flexible, and are used only for simpl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sin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sin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nd so on for a fixed known frequency 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.  These are used for periodic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B-spline function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These have now more or less replaced polynomials for non-periodic problems.  More explanation foll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construct basis system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start with a prototype basis function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Let’s call it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pply three operations to 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+a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focus fitting power near a posi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b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increase resolving powe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 the capacity for local curvatur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to increase differentiability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I see an examp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0024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ider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in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sin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+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/2)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s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sin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cos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k=1,2,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None; these are already infinitely differentiable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Orthogonality makes computing coefficients very fa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Fourier series are only natural i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periodic with perio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ve Fourier Basis Fun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1: Captures low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½: Captures higher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polynomia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Multiply by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ncrease both differentiability and curvatur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 scal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Polynomials are invariant with respect to shift and scal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Okay for very simple curves such as linear or slight curva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not flexible enough.  We can’t focus fitting power on a specific loc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8:12:19Z</dcterms:created>
  <dc:creator>ramsay</dc:creator>
  <dc:description/>
  <dc:language>en-US</dc:language>
  <cp:lastModifiedBy>ramsay</cp:lastModifiedBy>
  <dcterms:modified xsi:type="dcterms:W3CDTF">2004-06-07T13:47:20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