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6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2CE-F106-4E5F-9606-57D66F876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A760-1593-4C33-90F0-37054D70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-sensitive help is provided at every stage, and all 8 pri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s are also available to be browsed and searched on-line as 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.  S-PLUS's open design makes it easy to work with your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as well: for example, you can cut-and-paste 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ght from S-PLUS into applications like Word or Excel, and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data from more than 20 different data sources, including ASCI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, SAS, Oracle, SQL Server, and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9CB-C610-4126-8DCF-980B7C6A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with the ease of creating your graph with an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is the security of knowing you can easily aut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of the graphics you create for new data sets or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-- just drag and drop the graph into a Script file to creat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to instantly re-create the graph whe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6991-1806-4762-8480-B101F42DC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E5A6-6778-4F23-8C20-68605FB86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4025-608D-4BAA-9096-53465DFE0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EBD4-3E66-463A-9C36-287AD50BC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9D0F-61BC-421C-A4E1-5FE56F280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81C5-E1E9-4A6D-A3F8-C5618954F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B326-D76D-4C9A-A89A-AC39377E6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6EF3-0000-429F-8E05-CD8E34538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3C7F-B84D-4A58-AC68-9A054CE3B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F306-5215-4F3B-A21A-728B6A6B0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A334-3891-4131-B5DC-4D1A122CB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8E6C-7B8F-4DAE-8A74-A8B1A3580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Univers 57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12C-1294-427E-879B-823FFF417C50}" type="slidenum">
              <a:rPr b="1" lang="en-US" sz="1400" spc="-1" strike="noStrike">
                <a:solidFill>
                  <a:srgbClr val="000000"/>
                </a:solidFill>
                <a:latin typeface="Univers 57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Insightful Corporation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353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752480"/>
            <a:ext cx="7696080" cy="0"/>
          </a:xfrm>
          <a:prstGeom prst="line">
            <a:avLst/>
          </a:prstGeom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aculty.washington.edu/ezivot" TargetMode="External"/><Relationship Id="rId3" Type="http://schemas.openxmlformats.org/officeDocument/2006/relationships/hyperlink" Target="http://faculty.washington.edu/ezivot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insightful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+FinMetrics™ 2.0: Advancing the State of the Art in Modeling Financial Time Seri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Z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Professor of Economic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Professor of Fin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Waterman Distinguished Sch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AA7B-197C-4B1E-B135-F13B13D680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D0FA-C962-49FF-81A2-58457C853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ting Bivariate Copulas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o Daily Returns on BMW and Sieme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EE68-3CB4-46C4-B7B9-F1C4A996B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ginal pdfs </a:t>
            </a:r>
            <a:r>
              <a:rPr b="1" i="1" lang="en-US" sz="3600" spc="-1" strike="noStrike">
                <a:solidFill>
                  <a:srgbClr val="808080"/>
                </a:solidFill>
                <a:latin typeface="Arial"/>
              </a:rPr>
              <a:t>are not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Normal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966F-2C9D-4CAA-B1CB-B74455412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int pdf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is not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Multivariate Norm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8153-355C-477D-BA46-BBAF45F9C8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ependence Modeling with Copula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ultivariate pdfs with uniformly distributed 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 simple way to create general multivariate pd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pecify Marginal pdf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Pick Copula to Capture Dependence Structur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Sklar’s Theorem to Couple Margins with Copula to Create Multivariate pdf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FinMetrics/EVANESCE has 18 parametric bivariate cop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1DAE-A493-429C-B372-137C7B05C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Semi-Parametric Generalized Pareto Distribution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4858-A4B9-4E00-AEAE-615F8FB6C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Bivariate pdf with Independent GPD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E567-A84F-4DDB-926C-CE350E9B55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9EBE-9559-436D-86BA-AB400C3C3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Normal Copula with </a:t>
            </a:r>
            <a:r>
              <a:rPr b="1" lang="en-US" sz="36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= 0.7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822E-0B7A-4C86-BAE8-18AFE8E8FD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ndependent, Normal, Gumbel and Clayton Copula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3941-FE54-4287-981C-1A2FA51F3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5B67-3AF5-41BA-9240-411613429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Normal Copula by Two-Step Maximum Likelihood Method (IFM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79250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 =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fit.copul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empcop.b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                  family = "normal", plot =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t Bivariate Copula by MLE 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-likelihood value:  15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mal copula fam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=  0.6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 Estimates, Standard Errors and t-rat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Std.Error  t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 0.6567   0.0065  101.05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B0E4-AC86-4490-AD2E-13F962EAD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LE vs. 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EC37-AE1D-4EC8-9759-B8E831955C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ctual vs. Simulated Return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F59F-9362-4283-9832-4992A28456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odel Comparison is Easy!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57400"/>
            <a:ext cx="8610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compare.copulaFit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cop.normal.fit, cop.gumbel.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like       AIC       BIC        H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normal.fit 1510.050 -3018.100 -3011.516 -3015.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gumbel.fit 1410.845 -2819.689 -2813.104 -2817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4CC7-5496-4BD0-BD10-ED2791D5C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6328-2D3A-41F9-AC36-7FCFFDD94E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eekly Realized Volatility of QQQ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6C9-E9E1-4873-B88F-3BF35FD00E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Nonlinear Regime Switching Mod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elf-Exciting Threshold Autoregression (SE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mooth Transition Autoregressive (S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Autoregressiv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State Spac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997F-EF00-45DF-95B9-77F5259E13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2209680"/>
          <a:ext cx="67816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7816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6E1C-71F8-40EC-874E-53632EFD9B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752480"/>
          <a:ext cx="64767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476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769608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E2B8-E466-493C-8CD9-DBEF8CCED3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Indices from 3-Regime TAR Model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AE3A-4339-4098-98E4-50E378B346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ypical Applications in Financ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risk and derivative 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program trad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multivariate macro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esting regression and other generic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daily volatilities and correlations for asse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17A3-5866-471D-A592-FA6031F388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kov Switching 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2314440"/>
          <a:ext cx="609624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14440"/>
                    <a:ext cx="609624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1D8A-3907-4872-9D4D-65485284B6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Probabilities from 2-Regime MS-AR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C205-7736-4B9A-9E6B-B9AAC7B47A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imulated Predictions of Volatility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9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809880" cy="247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5181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809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867280" y="6400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S-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1C21-FECC-4479-BCDA-E90A071500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0CD6-5DF3-45FE-8C64-8DD8FDF294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2044800"/>
          <a:ext cx="5904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44800"/>
                    <a:ext cx="5904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F410-C41B-419D-8038-671C730C6F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2666880"/>
          <a:ext cx="70866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0866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 variables are determined by solving the 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11480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regarded as discretely sampled observations from part of the abo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of the observed process is generally not available in closed form – M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not 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09DA-DE5E-458E-BED8-447B1EF1DD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3 Month U.S. T-Bill Rat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752480"/>
          <a:ext cx="7620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04FC-9EE2-440C-AE8E-B5A90F7E40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ochastic Volatility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52680" y="2508120"/>
          <a:ext cx="62658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2508120"/>
                    <a:ext cx="6265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62120" y="1981080"/>
            <a:ext cx="601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CIR model for short 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006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ersen, T. and J. Lund (1997). "Estimating Continuous-Time Stochastic Volatility Models of the Short-term Interest Rate,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Econo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E032-909C-4181-8F19-A56091AD1B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05120"/>
            <a:ext cx="8229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# calibrate to estimates obtained by Andersen and L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 = c(0.082,6.279,0.670,0.67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.names = c("k","mu","sigma","gamma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ird.gcir.aux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.pcode.a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rift.expr=expression(k*(mu-X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diffuse.expr=expression(sigma*X^gamma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rho.names = rho.gcir.nam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t.per.sim = 1/52, ndt = 2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seed = 123, X0 = 6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lbound=0,ubound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gcir.sim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1d.pcode.gensi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ho.gcir,n.sim=200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n.var=1,n.burn=1000,aux=gcir.a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DC9F-44F9-4E7D-B7C0-171BB0116C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d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752480"/>
          <a:ext cx="76197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619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213A-F4BE-4A20-A617-D5D649A42F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-PLUS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mier solution for exploratory data analysis and 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int-and-click to import various data formats, select statistical functions and displa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 4,200 data analysis functions, including the most comprehensive set of robust and moder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 existing methods or develop new ones with the award-winning S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werful, interactive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EDB6-8C73-481A-8FD6-8B0892F88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Population Moment Conditions fro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Parameters by Equating Sample Moments to Population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Moments tha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weighted average of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odel validity can be tested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Less Efficient than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683C-2599-473B-88CD-B98C0A9B9D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E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C25C-BBAF-46A4-BB60-40F6481F13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dvantages of EMM over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automatically generates moments from SNP auxilia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requires user-specified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uses moments that mimic infeasible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uses arbitrary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provides model diagnostics for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only provides model diagnostic based on weighted average of all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A458-6D31-48FF-924F-B97A168E11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MM Estimation of GCIR Model for T-Bill Rat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54F0-BF36-470A-BCA0-A8A5C81F08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tact Information/ Referenc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Zivot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faculty.washington.edu/eziv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2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5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Second Edition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 forthcoming.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Corporation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www.insightful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ales, Consulting, Trainin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B0C8-F40D-47A4-ADE9-D912566BC6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FACD-B83D-48FA-8E77-5A9DC3839E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AE9E-DA77-4101-AF80-B3042B0571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+FinMetrics™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LUS module with 500+ functions for the econometric modeling and prediction of 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for researchers and practitioners in the finance industry, academic researchers in economics and finance, and advanced MBA and graduate students in economic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s the power of S-PLUS for modeling univariate and multivariate 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9344-B5A2-452F-BFA4-39F6B3B498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-PLUS /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1789200"/>
            <a:ext cx="25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Descriptiv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3480" y="49896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anced Model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838160"/>
            <a:ext cx="441972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moothing &amp;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CF &amp; PA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pectr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ggregation and Seasonal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chnical Analysis &amp;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Fixed Income Analy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RIMA with Regressors and Long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Dynamic Time Series Regress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sts for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Unit Root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, Cointegration,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Extreme Value Distributions and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Cop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imulate Solutions to S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 regime switching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neur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eneral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Rolling Estimat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eemingly Unrelated Reg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Vector Autoregression and Co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ARCH – Univariate and Multiva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tate Space Model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Kalman Filter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tatistical Factor Models for Large Portfol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  <a:ea typeface="Arial"/>
              </a:rPr>
              <a:t>Method of Moments Estimation – GMM &amp; 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178080"/>
            <a:ext cx="685800" cy="1714680"/>
          </a:xfrm>
          <a:prstGeom prst="downArrow">
            <a:avLst>
              <a:gd name="adj1" fmla="val 50000"/>
              <a:gd name="adj2" fmla="val 625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2174-BAE7-4815-AF4C-D6D6BA23B0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ocumentation for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06360" y="1981080"/>
            <a:ext cx="27687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apter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pula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Nonlinear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ntinuous-Time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Generalized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Semi-nonparametric Conditional Density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Efficient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3CF-F7FF-4DBC-B361-D4A829369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Kim Kelly</cp:lastModifiedBy>
  <dcterms:modified xsi:type="dcterms:W3CDTF">2005-05-17T14:25:09Z</dcterms:modified>
  <cp:revision>119</cp:revision>
  <dc:subject/>
  <dc:title>PowerPoint Presentation</dc:title>
</cp:coreProperties>
</file>