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5EF-92C6-41A1-A494-EE3992E5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ed picture of mouse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k about interactive line at minut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.  Better way to do interactive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52C-64FA-4DBD-B300-CAEEAC62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B6-5F24-45BF-B309-109C38A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72F-3801-4D27-9AEB-B20328D9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3E4-D1DA-4CD2-9267-2B6982F1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457A-5338-4F39-B780-92E5EEC1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D7E-890F-4587-A41E-9049306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5FD9-01FC-47A4-AA7E-19F5E8F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AD93-3435-45EA-9874-6143985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2F9-D124-470F-A7EA-B4CA0D6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334-AC5A-49D8-BE33-410F64F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5F4A-5464-457F-AEF4-51BEDE4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7EE-B31E-4E2D-B479-884AD952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018-9983-4CA1-B345-25CE2763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038-773B-4636-A5A9-F688A183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B62-B4F3-47EF-A34A-367EE18C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322-71B4-4219-9909-0BBA6953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526F-D0D8-48EC-95FF-67FB65A7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5DD-911D-478C-9C05-848940C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967-B939-4878-907B-3F11C6A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E69-A2D3-4A46-9E6C-F2D5F63E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585-9413-4AE9-AD63-9F43D921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6F3-630B-4E1F-8004-22517813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4EC-1C2F-4EA3-9518-C8C6CF1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403-9972-4E10-B6BE-35D08E4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080-2E18-4686-8116-CFF9EA4374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ACE3-CFE9-4CDB-ABAE-D14BE1F4A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Mouse Liver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rivatives and Functional Linear Mode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8400" y="1981080"/>
            <a:ext cx="48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 also do a functional linear model for derivative (rate of chang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DA allows us to work with derivatives – which are closer to the mechanisms of th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0828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X/dt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12000" y="691920"/>
            <a:ext cx="2674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“kicks in” earlier than does 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kicks in at minute 9, B at minute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together, see push only at minute 9 (from 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5256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6327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676908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reating a functional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oothing with basis expansions to reduce no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mining derivatives graph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ilding functional linear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unctional regression coeffic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rivatives helpful here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es cholesterol get metabolized in the liv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92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questions can we ask of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400720" cy="442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24360" y="1457280"/>
            <a:ext cx="331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does the real, “smooth” process look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shapes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rates of change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flow curves look like as functional objec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64000" y="1773000"/>
            <a:ext cx="378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ok the derivative of the smoothed cur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ill retain curve-to-curve variability, but now much smo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4969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I graphically explore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5640" y="1125360"/>
            <a:ext cx="345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low curves 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ate of change of flow curves D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lot Dx(t) vs x(t). No longer an explicit function of tim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verlay time points on the curve for interpre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ives information about how function is linked with its derivativ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5076720" cy="489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981000"/>
            <a:ext cx="345600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0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we see in these phase-plane plo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75280" y="1483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ifference in curves between receptors and no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sps or ‘change-points’ when there are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Receptor A; Minute 15 for Receptor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Both Receptors: Interactive Effec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7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the relationship between the covariates and response curv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response; Scalar predi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gression coefficient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e basis expansion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1989000"/>
            <a:ext cx="482472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068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213000"/>
            <a:ext cx="87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0864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X(t)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88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8327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5:02:12Z</dcterms:created>
  <dc:creator>nuzzo</dc:creator>
  <dc:description/>
  <dc:language>en-US</dc:language>
  <cp:lastModifiedBy>J. O. Ramsay</cp:lastModifiedBy>
  <dcterms:modified xsi:type="dcterms:W3CDTF">2004-02-23T18:27:52Z</dcterms:modified>
  <cp:revision>17</cp:revision>
  <dc:subject/>
  <dc:title>Mouse Livers: Derivatives and Functional Linear Models</dc:title>
</cp:coreProperties>
</file>